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wmf" ContentType="image/x-wmf"/>
  <Override PartName="/ppt/media/image22.jpeg" ContentType="image/jpeg"/>
  <Override PartName="/ppt/media/image21.png" ContentType="image/png"/>
  <Override PartName="/ppt/media/image10.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34.jpeg" ContentType="image/jpeg"/>
  <Override PartName="/ppt/media/image12.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2.png" ContentType="image/png"/>
  <Override PartName="/ppt/media/image5.jpeg" ContentType="image/jpeg"/>
  <Override PartName="/ppt/media/image4.jpeg" ContentType="image/jpeg"/>
  <Override PartName="/ppt/media/image20.png" ContentType="image/pn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25.wmf" ContentType="image/x-wmf"/>
  <Override PartName="/ppt/media/image15.jpeg" ContentType="image/jpeg"/>
  <Override PartName="/ppt/media/image26.wmf" ContentType="image/x-wmf"/>
  <Override PartName="/ppt/media/image16.png" ContentType="image/png"/>
  <Override PartName="/ppt/media/image17.jpeg" ContentType="image/jpeg"/>
  <Override PartName="/ppt/media/image18.jpeg" ContentType="image/jpeg"/>
  <Override PartName="/ppt/media/image19.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31"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2" name="PlaceHolder 2"/>
          <p:cNvSpPr>
            <a:spLocks noGrp="1"/>
          </p:cNvSpPr>
          <p:nvPr>
            <p:ph type="dt" idx="79"/>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3"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4"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5" name="PlaceHolder 5"/>
          <p:cNvSpPr>
            <a:spLocks noGrp="1"/>
          </p:cNvSpPr>
          <p:nvPr>
            <p:ph type="ftr" idx="80"/>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6" name="PlaceHolder 6"/>
          <p:cNvSpPr>
            <a:spLocks noGrp="1"/>
          </p:cNvSpPr>
          <p:nvPr>
            <p:ph type="sldNum" idx="81"/>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E588A33-3AD6-4787-9BA3-F1CA7D3C3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2895480" y="525600"/>
            <a:ext cx="3505320" cy="2628720"/>
          </a:xfrm>
          <a:prstGeom prst="rect">
            <a:avLst/>
          </a:prstGeom>
          <a:ln w="0">
            <a:noFill/>
          </a:ln>
        </p:spPr>
      </p:sp>
      <p:sp>
        <p:nvSpPr>
          <p:cNvPr id="215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2895480" y="525600"/>
            <a:ext cx="3505320" cy="2628720"/>
          </a:xfrm>
          <a:prstGeom prst="rect">
            <a:avLst/>
          </a:prstGeom>
          <a:ln w="0">
            <a:noFill/>
          </a:ln>
        </p:spPr>
      </p:sp>
      <p:sp>
        <p:nvSpPr>
          <p:cNvPr id="216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6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BBD181E-9690-4586-8EEE-A774D710FB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2895480" y="525600"/>
            <a:ext cx="3505320" cy="2628720"/>
          </a:xfrm>
          <a:prstGeom prst="rect">
            <a:avLst/>
          </a:prstGeom>
          <a:ln w="0">
            <a:noFill/>
          </a:ln>
        </p:spPr>
      </p:sp>
      <p:sp>
        <p:nvSpPr>
          <p:cNvPr id="216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6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D79C631-2389-4C91-8EA4-686DA9BD56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2895480" y="525600"/>
            <a:ext cx="3505320" cy="2628720"/>
          </a:xfrm>
          <a:prstGeom prst="rect">
            <a:avLst/>
          </a:prstGeom>
          <a:ln w="0">
            <a:noFill/>
          </a:ln>
        </p:spPr>
      </p:sp>
      <p:sp>
        <p:nvSpPr>
          <p:cNvPr id="216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6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5B8B6E9-2F3E-471C-A928-BE0411BF9E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2895480" y="525600"/>
            <a:ext cx="3505320" cy="2628720"/>
          </a:xfrm>
          <a:prstGeom prst="rect">
            <a:avLst/>
          </a:prstGeom>
          <a:ln w="0">
            <a:noFill/>
          </a:ln>
        </p:spPr>
      </p:sp>
      <p:sp>
        <p:nvSpPr>
          <p:cNvPr id="217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7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B4886DE-D385-4A7B-9DE3-F69DB3B6E7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2895480" y="525600"/>
            <a:ext cx="3505320" cy="2628720"/>
          </a:xfrm>
          <a:prstGeom prst="rect">
            <a:avLst/>
          </a:prstGeom>
          <a:ln w="0">
            <a:noFill/>
          </a:ln>
        </p:spPr>
      </p:sp>
      <p:sp>
        <p:nvSpPr>
          <p:cNvPr id="217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7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20BEFD3-1F60-4F61-BC89-7928A31D01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2895480" y="525600"/>
            <a:ext cx="3505320" cy="2628720"/>
          </a:xfrm>
          <a:prstGeom prst="rect">
            <a:avLst/>
          </a:prstGeom>
          <a:ln w="0">
            <a:noFill/>
          </a:ln>
        </p:spPr>
      </p:sp>
      <p:sp>
        <p:nvSpPr>
          <p:cNvPr id="217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7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BA10D76-138F-4F31-A758-E13AC39B9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2895480" y="525600"/>
            <a:ext cx="3505320" cy="2628720"/>
          </a:xfrm>
          <a:prstGeom prst="rect">
            <a:avLst/>
          </a:prstGeom>
          <a:ln w="0">
            <a:noFill/>
          </a:ln>
        </p:spPr>
      </p:sp>
      <p:sp>
        <p:nvSpPr>
          <p:cNvPr id="21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2895480" y="525600"/>
            <a:ext cx="3505320" cy="2628720"/>
          </a:xfrm>
          <a:prstGeom prst="rect">
            <a:avLst/>
          </a:prstGeom>
          <a:ln w="0">
            <a:noFill/>
          </a:ln>
        </p:spPr>
      </p:sp>
      <p:sp>
        <p:nvSpPr>
          <p:cNvPr id="218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8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6E232D8-8486-40BF-83E0-8ED805140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2895480" y="525600"/>
            <a:ext cx="3505320" cy="2628720"/>
          </a:xfrm>
          <a:prstGeom prst="rect">
            <a:avLst/>
          </a:prstGeom>
          <a:ln w="0">
            <a:noFill/>
          </a:ln>
        </p:spPr>
      </p:sp>
      <p:sp>
        <p:nvSpPr>
          <p:cNvPr id="215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5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0B63CB6-B208-4EB8-A987-1EBF087D3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2895480" y="525600"/>
            <a:ext cx="3505320" cy="2628720"/>
          </a:xfrm>
          <a:prstGeom prst="rect">
            <a:avLst/>
          </a:prstGeom>
          <a:ln w="0">
            <a:noFill/>
          </a:ln>
        </p:spPr>
      </p:sp>
      <p:sp>
        <p:nvSpPr>
          <p:cNvPr id="215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Before dividing into the standards or even writing a lesson or unit, you should purchase and read the frameworks document.  This document was based on how science has progressed since 1995 (when the first national standards came out) and what the educational community has learned from research on learning and teaching in science that has informed a revision of the standards. The Carnegie Corporation of NY, together with the Institute for Advanced Study, established a commission that issued a report entitled The Opportunity Equation, calling for a common set of standards in science to be developed. This framework was built on the strong foundation of previous studies that sought to identify and describe the major ideas for K-12 science education.  These include Science for All Americans and Benchmarks for Science Literacy. </a:t>
            </a:r>
            <a:endParaRPr b="0" lang="en-US" sz="1200" spc="-1" strike="noStrike">
              <a:solidFill>
                <a:srgbClr val="000000"/>
              </a:solidFill>
              <a:latin typeface="Calibri"/>
            </a:endParaRPr>
          </a:p>
        </p:txBody>
      </p:sp>
      <p:sp>
        <p:nvSpPr>
          <p:cNvPr id="215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CC36331-26E9-47DF-8A63-C96082D932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6065A-C063-424A-91AA-34CE80586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12F5333-7D4F-43EB-AB15-2BDB00F247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43127E2-862D-4BB0-A563-149EEF2E90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7D5A1B70-623C-4230-9508-B5470DB799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19CA74D4-0A16-4AC9-809D-144204C1A2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1991343-8E58-42EE-A7F2-EF6040B04E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6B418F0-9C47-48FF-B0F9-9AC69E2466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41EE1D2-4B18-4C0E-822A-7A7568C9FE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982F360-E63A-47BB-A6E4-011F765179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AA04369A-29E9-41B0-BFC6-42577071DD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8295B1E6-FE8F-435C-B69B-B3792D193B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66A33CE-7E99-453F-8563-7093FBE7DC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940A3DB-1BFF-4000-B1E4-5B75269BC8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90B08AB2-22B3-4A04-992D-2D30C98C0E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F87DF00-7495-46E5-94D2-4195F9469F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E8864CB-4641-4DDA-8A4A-FC3B3DCA52F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FB9D4984-4A81-463A-BDC4-28572684FB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6BEC9FC3-C3AB-40BF-B8FF-88AE86444E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E50A5A3-5498-4398-9357-1112930F9B1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D6D5A02-5FEA-4E1A-88DB-8BE5A9ACE7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7E4169D-4B6C-4D78-B4E4-60353E9EF3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4D6C9925-94E3-48C2-895C-35F2403CD4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4CFDD98D-58B4-4712-A576-E092003923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3F354AD-4EEC-455A-8597-2FE7AA054E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0BDCC1A2-3449-4F5E-8A6F-56442A0152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76682E5-2F31-4137-8653-B26F22D2423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84F5DBF-E7C7-4213-B358-522EB78174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CC0EB44-1A00-451B-97E3-F2C9CF4626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3BD9E09-E57A-4366-88DA-12AD3928A5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56BF237B-F193-4A93-8295-2492956180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1B52BEF-3EF7-4307-812E-70A23AC770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1D622BD-08EC-4017-B672-763C40B8E7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DCD22D3-DEDC-498E-912D-4520F45EC9E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0AD0DB6-A9B7-4063-93EE-D7B991D68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855CD4-9433-4BAC-87A9-CEA1FCE33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4CB1E10-5421-4924-A461-2BEB8E3F152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911F9D0-48C7-4581-99FC-509A740D367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F071C2F-4322-424E-925D-3C86E3392C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E8F8B64-4EA9-45E2-A474-E6087AD8E5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0BA694D-3385-4B0D-913E-64C775C1DA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A458C43-A813-450A-9580-F52AE3BC84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8A88278-203B-4D49-9265-D902B3919AD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E0BDAD30-718C-48CF-9BBE-4317CD2A82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7E33C4A-6EAF-4B9B-BA55-07030D8129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A06D0EA-B357-41AD-BA68-60CEFEE6D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46161D-E924-4FCC-8085-206ACE13A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B2A4266-6CDA-4794-8DB4-C8DAB1995E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5826C4C-606A-483E-B506-2BB501D504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1C73776-3EFC-4DD2-B5A0-DFEEDB6B6D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9DB9703-DCA6-427B-BD8C-E8CF61BCD8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3EA515B-8E85-4EFD-BD2C-A368876A710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40203A5-C264-4E7F-9B78-7E8C8E2C44A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D7712D20-E78E-4DC2-9A15-11B0258DC8F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24BCA05B-AA1D-4463-BAC6-19B0528B8A9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4581A8B-54E1-4432-8D36-EA64F60C85E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4FE40CED-E3E6-4EDF-92B7-7FA8CA72FD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FB4439-54EA-4F40-B048-E5131BF27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841AB602-B590-4053-AB0A-455AF402838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C7E08DC-15D8-4416-BF4F-9FBF2E19429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0DC60F2-9CA4-4F33-9F5D-D5F48D97DE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DC968F4-520F-40EA-AFB4-3E9C4E01EF8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F479D8D4-C683-41CE-A42E-D81AF595F4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2DE985B6-2A71-45F0-8419-F3317B38F7F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978A1326-458F-4DDB-8C43-E8D3A866AA8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2303FA3-724D-48AA-B1A7-E31794E0097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D18D1EC-677B-4F33-BDF5-ACBA1B1EE76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7A46670-8F58-44C5-BF31-ED74E5418E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792B94-6297-4396-831C-F7516A618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66CB284-CDA4-449D-974C-CEF3EEDA797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2767192D-16B7-4A56-AC97-C1068BEBA94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0B5CC02C-93A2-4D53-A4B7-6366FF0867B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8C44303-418F-46E0-BA7E-CBC362061E3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BB2CCA71-D6BE-43E7-8CD7-C21A6421A3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6A295E8-4E36-40DA-9B4D-25CC2BEB54C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4713FDE-2786-428E-BEC4-345C21593F0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E5CE78E1-DF06-444D-ADAF-751A7C0C8BF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4725F12D-F546-4E6E-B736-A93C1FA848A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14AE046-1FCA-40C6-A33D-9D3913C99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45493B-F48B-46A3-9897-95C9FCF70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DC918806-E3C1-459E-ADE7-4F7B4844EC0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ADED693D-F541-4574-BC7D-CBF697CB11B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26A8E8BA-D328-4216-96B9-E4073F72B96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9EE8673B-BF7B-4834-9726-B89837F17B5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04C65133-F6C2-4288-8BC4-6578BB03428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DF79FFD-27DB-463B-800E-22F9A8DCAB8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FB67D90-52C4-42F2-8A1B-BB1CF658467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BA63B0D5-CDCD-4826-983D-338102AC211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2B972C15-220A-42FB-B9F6-FD03A45C058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A7D11990-9A5F-47D4-88A6-EF422DC04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6A7740-0F83-408A-B924-340D5E585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BA69A783-9B79-4942-B4AE-6321E5193C2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F68115C-64B2-4C55-86F1-42898525A3C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973FD30-D212-4EC3-9D64-248820A9B11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84E0E62-164B-426A-81FA-6DA1E5817FC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2C065D6-F70C-4BE3-8B98-0A1FE96873E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04409DEF-D0FE-4BB5-8E6F-3EB62FCF2DE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60C4E774-B2C5-4187-9B79-496CEE0E9D6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4A67EC6-3B97-4FEA-BE70-AC5BCD05A45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5C2B732-B265-405F-8E08-9985AB6B32E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7AC8BD6-D348-4F5A-BBA2-CDD999FAE7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5EB4DA-6C88-461E-A18E-5ABE8E4F6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49E7D06-BFE0-4970-9976-5B32B93D1D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5E35EDB9-9C1F-4FBE-A1F0-E1D2B230FAD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25C84F6-0ACB-4FB4-9B39-C3469A1E05C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960CA69-292D-40CC-96C8-9EAC64C4465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20C0871-8C15-47E9-ADD1-32447906BB9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4EF28C6F-E3F6-4CC5-A6B0-90FF70BC1AF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10209618-AAA9-47BB-91CF-93229A8741A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BFE3547D-3EE5-45F7-B523-DB9F9E72AC6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99EDDD5B-F9F8-4074-B93B-5EA7F42E9EA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2EFC1C3B-3B2F-44AB-8D13-9245493C7D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69CF09-D483-475C-9F60-EBBAB181E5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24301B-95D4-456E-B311-A51DBAE09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64BCBF6-2553-4C5B-A29E-12C7B96BA94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642B2967-A719-44A9-8AEC-F90F9FB0D53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A211C10C-78F6-4765-9D9B-F78D081ACCA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4C966361-B89E-4544-B066-4BE5E7CFC05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37A0D3A2-EF8B-4ADB-AF60-302D936A37E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B0EBB29-60E9-422F-97FA-89ECEAFA1AA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C317939-F81C-4DCA-A034-A69EAB85972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C3B1209F-25D3-4C7E-A3F6-19E3D175498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49E9FB1-3CB2-4535-83DB-B7D261E10F4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657E4E9D-CC05-486E-9313-A2426BE527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A1F11C-50DB-402E-B114-5EAFB09820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D20F5F45-423B-4978-BAC5-B1F714E633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2F946F8-C80E-47BA-ABB9-FC7A8BD3333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AEF5917-C415-4F49-AAA2-6A56C3A8341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D8183F1-7474-4BC2-B94C-E75D3DD1075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57344AC-A7C1-4569-90D0-B9ACC179C20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4A072511-8506-4126-A81D-12429807B50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8B5800AE-06F1-4AE0-8248-9C1E7442E10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7AFADFE-BC71-451A-9C37-14DB7B2929E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564C137-EDAE-4D6E-90F8-3E46B9CE2EB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CADB4D3-E0D5-491D-A0FF-B5838D423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3900F8-5F14-420A-A28F-84DE56A3D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FEE551AC-A6BE-40A0-AA54-99226675F22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A35FEF33-2559-4BBB-B8F8-B5B4D189B20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2E4166A2-DA09-4D7E-8559-CAF1B0C82FB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3BA27324-1A5C-49EA-B02D-F85646E4459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E92F7775-7B61-4948-B2E1-BFA62198321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E132DDE-7AEA-4856-A9B8-78D1D45E0E2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17E0058B-9A33-45DE-8201-CFB42583723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F0619D46-D93F-41B7-9F16-C023916D256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F0FE9062-EDB4-496F-BA0B-2C05E0D60B5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C9F844F-6E76-4E29-9BAC-B5F10031C1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59C940-D8E0-4EBD-94A2-C046E19349F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5D12B6E-0830-4FC1-AC46-1A6F8DFF3C8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B772FAE-6DB0-4AA5-9795-B83DC4B14B9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FA7A64E-E092-408E-AFD3-7E1D782C360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9990110D-895C-4430-8678-0C1A4CEC8C2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5F1E087-681D-4FD6-B6A7-76E6C083B88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A67456A-0A93-4AE3-8756-28B58C5424F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C72BC03-86BB-4E06-9C5C-CE248A3C34A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6FAD745-1ED9-409F-BAA6-DA28D38EA14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A5B6DD2-E820-4DCE-B0DD-4956298619B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F04BCB8-ADE2-4AA9-B95E-62C2F9B4D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068B37-C1AD-420F-AAFB-0AD2F53023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D466C2A-FD70-4A26-9D7C-9A99E091927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410EC77-11C3-4321-9E67-F45311C484C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2895365-503B-459C-B7C6-CE5C40CF356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3D8B9C1-D3AE-4668-A0B4-5F6D6CD9065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2383016-2D81-4B7D-84BE-4E9D2B8A82B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DACAAF73-A388-46B7-B14F-FE9CB1D4954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6B876D1-F886-4B25-9BB2-322705068E0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FC2AD48-83DB-4233-948C-ADC4BF9A463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A077F4F-2130-4406-9E6E-0ECE2CE7DF2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F1516A1-18E2-49B4-9A4E-D483D4B3305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E5984A-EB1D-4A7A-A97A-AA0675458C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94DE747-AE18-4482-94E3-79A28A26EF1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1D9A142-3470-4F93-98BD-AA506E7BB87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2BBCE2B-BB15-47CF-AD54-A8A605E00D3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0E02D83-04A3-418A-BD30-1E260825993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2A0B19D-D9AD-46F8-94E3-2B571E69893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7C4BD0F-81E1-4BDB-B49D-EE0771898AC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4BC1842-5057-4A95-AAF2-8D7EFA09E8F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1B10D311-880E-41CF-9437-6533AB23E0D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CB343D4-CFF2-40F0-B7D8-1671C8A4D1C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1907083-8010-47A7-94CA-5ADF2C310D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F438AB-C2F9-40FE-A294-6CC5EAD5B5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3E69EE4-6A2B-483C-88BC-4D49CDC8698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ADD49D2-4232-4C45-B40C-98FDB376423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AB20A51-869D-4E4D-A86A-4F2B9F72AE6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6D7B50E8-1EF6-42AA-B068-48E6744A4DC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B71B6A7-98A2-4CD7-B1A2-2085BB398BE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C5CDDBEC-034F-4748-960B-F3C25F50828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F1B7DDEC-9BEF-416C-BCA8-D7C996C85F1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B52DC49D-1B77-4609-A074-09684147D86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934E880-B646-46B8-842E-DA52BDA194C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64E8663-1F4D-4B75-A2C1-537F635EAA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4F715B-5414-4EE8-AFDB-DA0C24AACA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F286655A-E133-4B42-8CF9-2183D1AC7B4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6E8B935-358A-4075-BC98-D2A01989599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85FFDD7-8EC0-405C-AB82-5B97875DA8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DDC3E651-1672-4A80-8A2F-EF6CC7E162D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9FE23D2-250B-437F-AF82-833A75638AF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EE9F3263-E412-4194-9E54-E8806919A18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FDA1A191-8314-419D-B72C-D46F38E8C0B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747934D-361F-4694-A57F-6C7F6A01FA1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B2B67B8-6235-4738-ABB5-704A9E19012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A8B8605-60BA-4390-B1B5-9FCD44536E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6CA33D0-4912-4696-98C0-BC924B822C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5D924CE-13AB-4D04-98AC-926FB77CDFD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065A5A8-F420-476B-9095-4275C66625F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F1BEE9F-5971-49F9-A7BD-D82D71DA2EA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C67F9C3-B70D-41F1-B9CF-35434C969E5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053DE2C-4528-402B-8BA3-F6A0631348C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4526F54-64F1-4DCF-AF2D-0B4600558C8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276BE2A-E712-482E-A4E1-120EF4871B2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1546A3D-3945-4468-9A4F-62ADC841AAF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664AB3D-1FDA-4995-A038-13E23D4E2F8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3510391-CCC2-4234-97E5-F2EB7EC884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87B8941-BA59-4340-9A9F-FE3A76AFC8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FF61815-8F5B-4129-9A1A-5E9350DF21A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BC19A1-5759-4BFA-9967-82C8B156206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E23E93-0ED2-4717-A79E-0FE314ED452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1283D56-942D-412A-8DF0-956C1B90286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8B3B7A-D0A9-45DB-888E-DECF5FB3BE9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3C279AA-FAF8-4CB9-B456-9256F8ACE3A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7E4458-4B1F-4C68-AB13-5353207E2F9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6E656B-FF37-4472-A9C5-9A8C6A157E3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218FCE-A9FD-40C4-A93D-F45ACED4D3D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C8D7849-631C-41FC-9CD9-3050D5375F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3E7538-7309-424F-AA3B-D7B8D9AEB4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F6F67B-4DC4-48A2-A478-B5A7306DA4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BABAA1A-919F-4FC2-8F38-D5CAEA09D96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1C54C0D-E406-476C-877B-A52D42E003C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42F02E56-6018-4BBE-BB7B-31CDA2BC613A}"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A0F16539-DAFB-42C6-AEC0-878944FEA35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B3DD4A9B-AF15-4636-90F0-0C43446F06A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A87E4207-CFA5-4C09-9093-E55C332D5B9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65D8F18D-3E44-46A0-85A2-257BAD1526F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6E362E6A-AFE1-4769-860D-A3646414F3F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7B468A07-8202-426D-A65E-BD3F25DAC5E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0F4E68B-6B2E-4EC7-BED4-9C3ACA3902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75D404-F56F-4FAA-9888-D9DF82FA09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81D5B0EE-591C-4A77-B9A4-ADF68F1D1EE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814FB65E-36EB-46B5-A8A3-809221AF1D9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FE7F9547-E123-4320-84F9-66CAF84F99D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5300179-2F42-4143-8335-74441B9D184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2A700E44-BCF6-4424-9026-B24EC032A3E3}"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2A7B4385-2DAC-4CF2-AB62-F734EAD29F0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E1529EFC-4D8E-4157-94A6-A2A6607D4FA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6463E949-440A-4E9B-A81F-A6472F9393B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4760F8BB-F5FA-4AAF-ACD8-D0E62A9E79B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35AADEB4-8D0E-48BE-9B1E-E61C4C1C7D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97D657-1759-4382-8C98-1DCBD051D4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8E24E1C-AAC8-44BE-B6DA-22055371B38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E77CEE6C-4819-4198-B27A-C70AEA745977}"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7652C0F9-EA68-4F56-B626-049241CD2F5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A4558EB9-9AFB-458C-B19F-00E692D7B73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714D79AC-340F-481D-AC13-87926826610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58168CC-FE92-447C-AC53-51026C299F1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B7A0E67B-CCD9-4359-B701-68A0A25E442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C81CB40E-D98C-4E54-92EB-ECEE5B5B09C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BBF670B7-26AE-4094-9D7E-ED6420DC7DD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D4EF9887-AB75-49BB-A4CB-84B47C14DF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F4BAC2-49DD-4E50-8DA7-FB3551C6F3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F11457E8-CE0B-4922-8111-E041977EEB4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E7639A2-3EB0-48E9-9979-E648E9A5437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AF623ADD-B4E8-409A-8DC0-157BAF1DF97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13D57B37-48E5-4D3B-923B-85CD8D7D9CB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E0CE0CC7-C86A-4E02-B8F3-5C9138B733F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9F74A730-7E65-496B-A288-3A7FCB95EEA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B9B98CC8-2963-49F8-8580-5263769ACFC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68B3F03-55A7-40FD-9C47-67C06858471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64C64096-6993-4A46-B473-2C6FB1F7984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208B2BE3-8E91-4440-9F74-CA54F2D84A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9EDE8B4-1E4C-4B5A-A3F3-A4C180E6F5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26723E9-B729-4CAE-9AF9-5CAD80644BF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114960EB-C47A-4B22-BCFE-BE76587896C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7BE0C4D9-8918-418D-9BD9-6722F48765C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5C1ADCE2-AC12-414A-8FD3-991041F576C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0AB80690-64FF-49FA-A90C-984D45DDFF67}"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1DA7D9B5-500C-4692-8896-DF0C12100BC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C013536-97AD-459E-8071-226C1D0D45E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5CE45EC2-5CA7-4627-94A8-799FB3D2325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08D635BD-B107-48D9-8E56-30441475916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F7CDC491-6602-45FE-B3DB-425EEFFA13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17A2DEB-906F-4112-AF13-4E8A21444E9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150537CA-58B2-4D20-A8D5-4CD6101491F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9A867074-03EF-4AF8-A00B-6CC328F9999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5CECA57E-C030-4479-AECF-48D035D00D7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BC6AD80C-CC1F-46EF-89EF-EBDDD4ACF9D3}"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68B0D7A2-9584-4826-A8FA-8148800C97EE}"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BB6E889-7E0E-4358-B26C-573DBDDCDD5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B4FA559E-B1B8-4360-B560-A88EAEC803C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99CF3FE-5FFD-4D23-8805-7E0556AFC5A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FF03FCD6-C76D-4976-BBF1-654737A821C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3F8EC460-2655-4090-89C4-E4194748C9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DD5B94D-B9D3-4C1F-B895-E6343BE73B6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A89C9E8D-7B52-4843-AC6E-DDDA16D0C66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97CF890-9727-4537-8CF2-248BACEAC36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1AB37FB-BB2C-44C5-BA17-26169E0CA36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4E4E492-3A29-497B-A913-20BE3C26F54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BF38C09E-A207-421A-8BBE-11E0590F4F4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EDC81265-A793-4C9E-A960-E6707444D1B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4B3D519C-8C60-467F-B5A4-E1D8EE1D24E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18EFF09-99EC-439B-8E46-B6DAE12A03B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127B617-A8F7-4791-974A-D8E546F17FD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4963B14-C343-491F-AF53-11ABFA139A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7CA604-06DD-4BBC-B956-F5A7732F5D7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127F20B3-76FD-44CB-969A-552C241D127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C7697CAC-4DCF-4420-A7E8-D4D8D72F76E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297152C6-065F-4812-86F0-7EE241FDA3F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3ECC82E-5EC7-421C-8737-BB95A9DE85A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7F5A8BDA-3C5C-4AD6-AB70-243CD8BE69B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7D522881-8DF8-4EBC-BB09-5E24368324B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0E690412-83F7-4689-A299-5E935B8B6C4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DC849A0E-7672-491B-AE98-31AB9A61ED0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F1302CA8-CAB7-49C6-A1B7-1ED27713F22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B9E387D-42FF-4393-A901-8A4F208ACB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6A30C5A-C6E2-44E8-AC18-668BC2989483}"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68A0B9D-B977-4A04-926A-612BD640480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1CA41F8A-38DD-438C-B563-B6EDDF1CC7A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FA490498-B13F-4C31-9632-95CF18E301E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DEDA20CE-A5E1-4174-A4BD-D83CB04599C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1E6888C2-F959-42EB-A14C-3C78B47D5F2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D46E8EA-4947-4BA5-89A2-2F17E857044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905E63BA-6600-41A9-B71C-F1661125B05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66AB46E6-C21D-43DE-81EC-96B8B7764BE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C6E98D1D-D615-4DD5-A4FF-773D27C4001C}"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970984B5-1722-4669-A332-465F5D357D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65C47F9-9508-4FE9-8AFF-F601A754BBB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C2141D9C-3135-461F-8CB6-64DD8028AF3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1B48A32D-FACF-47CF-9F16-2C5A87DA950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F9D90A37-6138-45D4-A905-58000BB40B1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7FC8FE7D-B3E2-4187-BE3A-408B8968C48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BC7A6C6-B8B1-445E-A23E-741C6070092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F8B07E5F-9714-4BA1-B6DF-FE38359B31C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80F75999-A7C8-4B32-9C30-CCE645AEEB9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F24AECD-4B46-47FE-802B-20CBD5B748D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2888EF0-A9CA-4597-B4AB-4AAF17BB2C4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5ABCD57-E5FE-4DF6-B536-8E25EF87C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ABE4BD-48B4-4098-8169-DE777EA3D9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6D3170D-0007-49BA-A16D-910847E6278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1D2A409-E720-4CB4-99BF-845D50B32FA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0A52C91-F7D1-4023-8BD4-EBB9F9C63A58}"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017C37E-C10B-4741-92D4-534243846C2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82C0BDD-7D73-4DE6-B40F-8E5AD7922B4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246A3C1-DD01-4536-9F30-BDCD17873FB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8683416-E87A-48DA-A4D2-EA8E6246669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0081588-1275-477D-806C-064C49CB926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7A34B8E-B2A9-4628-A22F-C3E72F35B2F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C57F022-88D0-4F91-AFDF-758FC53FADB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861A7D31-0BA8-4EBA-AFA4-AC78E880C7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D04683AE-167C-44F6-92A5-0CC3A7D09F1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84A26687-B17C-4823-BF24-36C50B99443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449F9C48-5F17-4418-8E68-81A24170CBA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08728678-7A19-478D-AD8A-45E5CEC394F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9483634D-B182-445B-8AAA-FD24BC2EE5A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1C448682-91F4-4613-8E46-B3C60A21095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C2BE2643-29F8-479D-BE35-D857F4509F2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3AA26900-8CA1-4048-9854-184D22190B3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987C7746-DD60-4E71-AF6A-89D23606FBA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48371E36-4305-444C-A4E6-0D2C82C1830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E1B9B0CF-3D56-4022-96EE-35AD458EEA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8C4C388-079F-4E85-B19B-5F1D34E5479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295B423E-13F1-4BFB-9C5E-52726309464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DCD28F83-60DC-4C5A-855A-2EADFEA5F66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A07B569A-2F6A-4608-9913-08D34C57B4D3}"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62DB15B2-1AD4-4956-ADB5-42AD16EA249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7BE73871-4732-40BC-8B76-4AFB3776B35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FA703635-EBB5-45FF-8986-CEFDF196AB6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360282DB-5B5C-49CA-9539-F1F5524C310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B42B4286-8913-4B34-8E16-C078D8DA75F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F0B39C41-4780-4CCD-88DC-E4AA534FC1B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A81B645F-C01B-4B8E-BE34-FA25F4B0FE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EC01932-6344-4BB0-9606-BAB4B875BFDD}"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FD90DE54-7054-49BD-8D3C-1CE08C8812C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EA553C9D-CB5B-47D7-BA57-42CED29562DB}"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C3D099CC-459C-45D7-828B-EEE8B23D5E4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7362930-A215-430D-9FC1-6F6A722325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0765A5-78A9-47DC-8D9F-1CAD034DE4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B628A52-555E-4199-90FF-F9CB43BC45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11159C-12F2-4356-8E96-1D37FF9208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A7BFF3A-83BE-41D1-A252-A8EEAF0F94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F08E7A-1A74-43DB-B709-FE258BCD41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00F3B8-6912-4D51-8A9B-1DE0A7801A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E858329-1A86-42BD-935C-36DC8C79CF7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45F7EA-62C6-42C6-85C3-149715EED1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9A1749-41A9-4282-AC03-123D3DC6CB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8733F6-686E-42F0-97FA-FA1BD069C4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B9349AF-2BB3-4CE3-B34F-BF19F8CE7F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2AE580-2701-4A9F-9FE2-7B6BD0BA58E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1CCED84-D19F-4791-8F98-7C9146CB799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9DCE855-0AB7-45A8-9CAA-392215E4CB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228195-2D26-4F8F-8F24-99E4B8D4F2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C528C1-DDF2-4377-85D8-2B7D1A12D1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5E3D0B-8B64-45E6-8663-4898A4FD92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196DB3D-EA6D-49C9-977F-2624029B622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263549-4108-46D5-814E-C7B7197207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0F2B91-EBBC-4377-8349-BE2D74A762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987BF7-2CDC-4420-A946-648EF1D2E8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4B3CF8-3C96-4ED3-A266-924F0488C9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CD73A8-7310-4B19-A914-E2C66FF3A9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C4BC33-1EC3-4B9C-B748-0E11A9BC6BE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142824-3441-437E-A861-74BCAE05A7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52C9BCE-15C0-4264-AF9E-2CD251C04AE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C9B339-A408-43AE-B8F6-90658400037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F24462-C398-4618-9D31-0567ED5252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C2AA047-9B56-429E-8368-FEFCC42B358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680A3DE-6489-4B4E-BBAC-61A0C6FF85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0DE1D3-1FF2-49E4-A8AA-0506EEE662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0E2FF2-F42F-4FE3-9F9C-9BD7F1777A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A5008D-975F-4CC8-91C5-5D3E7A9631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7067B6-E196-446C-849C-1B719C99B3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04283B-A64F-439F-B8C6-EF5C9C67D4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50A0C5A-8889-4D0D-94A5-B78F00AB4D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B004D5-99A5-4F52-BA35-F1D48B761C7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39CAB18-47AA-4E44-85C1-B20DEE35BC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7074993-810F-43E3-A95B-BCFBF58EAFC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24D7F15-04A2-48A4-93EA-6CD13C57828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3B7DA1-2B85-4B10-9EF8-BB765EA270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0C1476-D0BE-4510-A62A-31D4723774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EFE7C9-17A4-4E4A-98B8-45919A04A0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7DB5FA0-F2D2-45F8-80FF-B0858B4B15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7B43F8-BA4F-47C6-982D-15707201B3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12BA3E-B501-45D2-BF06-0CFF989BFA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680AB1-F961-4D6B-AF67-5CF9F3F80B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8924F3-4720-4972-BBFA-0F407755A0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6B8039E-F5E5-4166-AF31-ADECEBE72A3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CF3BDD-43C4-4598-87A1-F9D5F111B9C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DD99930-3A7B-42A0-8263-4DA4F2EA44F1}"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BE82EF9-D2EA-45BC-9027-EA7891E9844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EF8A8C6-7408-44CD-877C-74A993EA5F3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AA41C2E-4F9E-4E5B-A234-51221A8848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1E6D2B9-C09F-4F39-B7A7-B00DCD218D0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68F48F-1F38-4DDA-816E-2E4727EB23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C08CA0-BC26-4823-9D14-4E0AB33273C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C8F6F33-07AA-4439-A74A-9F4B0F658D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C2FB7B-E065-4A98-9829-BEFDFCDCF3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7F1F3E-5952-4F39-AADB-B0C69BBAA9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6EFC47-5CA0-49AF-808D-A96983006F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29E1F78-2724-404D-B2BA-2B067841300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B1A29C-10B2-4839-B276-DA1893F4CC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940D696-FB7A-42D1-BC1B-CC0B74C07F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FA94DC8-D511-4CBF-8C55-673DAB24FD2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C92F517-5A70-41B6-B436-BEB3D5EAFD9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C272F4B-CC8B-42D7-A5BA-DB9A3E140EA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B1236D-5F42-44BE-A099-D525DBFCF3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2002FC7-B833-4DA7-A647-A250084BE97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A0EC1D-E8E7-4B80-A8F7-00F4F2C74B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FA2EA1-1FBE-4E0E-9084-5D27BA8E4C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262AD7A-9C81-4F0E-9A3B-C0291B85BD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0CD94CB8-7978-48D1-BED7-D7522FAF84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0793FBD-698F-4C4F-B7E9-E93BD46C1A29}"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B2EE8E-C9D1-436A-9B1A-A8602ED193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154844-99E0-4B9F-9EE2-3EA0F631FB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D6EF6CF-DF10-4EC5-8B3B-CADF68021DD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04DCD6B-4385-4BA2-A0F7-4921108A324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AE93272-0BF4-4FB7-ADBD-F495BA20EC9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F5A515A-849C-4F9F-BA26-27CA0475ADC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BE5989C-9AA6-4478-A5FE-4DEF4444506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431C429-796C-43E1-925F-6D130705DA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9720721-18AA-4F97-8F0C-F28CE1E748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3978DAD-2A6C-41A2-AD63-20586FB24C0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4214800-C5CC-4E19-AE5F-ED69A9CB876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09AEB0-CBC9-4720-BBA0-E2E3EA946CC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0F6CA75-C7D4-4D56-8623-77DC3A12B2A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615D7BB-A594-4A16-8AAA-785F550E117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FDD1F0-845C-42E7-AB43-C17793986C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8BD38B-F9F1-4850-A5FB-5C24BB9CCBB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03B0802-DCE9-48E8-B14A-73883D2CAC5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0063358-A3E1-4041-950F-E7B4B905FB4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B986236-9C43-4AD6-BD4B-1ABAC5C9C38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917EF5-A877-4B45-856D-BD0667D1CEC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EDFB258-CE6D-4DA3-8F5B-687629DC585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D4FEFE9-6D5C-4603-B9F0-CA72C72EC77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9C2BAAF-4086-4598-8735-F83B9112BEB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78BD0C-E1C5-4550-8D9B-79A5E47B1DA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3E003C-F7A9-4EB7-A3F6-00B9F3DBEE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1C4E7A-56F9-41F6-BF00-A63B384F722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32D2770-C5B9-4CCD-8432-09EB922F04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56088F3-2A7E-4B46-9511-0ED0FABE1C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7D885D6-5A9F-4D2E-9E17-6F4BA8B066D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6BB077F-E2A3-4E58-801F-5113E9E8A56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EA18478-8047-4689-A350-5CF616ACB04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8C05080-97F3-42F9-9292-9C5F2C2A892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A57E1C22-60A9-4EDA-ACB5-84748AD24B86}"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BF721A-246D-4396-A4BD-0662687295E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BD5EBD2-0E2E-4042-AE1A-B3B7F2B2DFF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807C5A-503C-41BC-9F67-C4E694C3BF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25B1C4-978A-4F2E-A329-643D30F8062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6AE9A3D-505A-4571-89A6-D4018C86BB1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87D0DD5-9D3A-460A-8D53-7D869AB08E9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A041C4-2D28-4E48-8FFE-C8A40E5AFB9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29DB95-37A2-4585-9C27-D6014DFD4C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00C0444-6485-4515-A0B4-8033B69557F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C648D35-2487-488B-8095-95FF2E7C722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5AC40BE9-120A-4B3A-866B-584DFAA4E6CE}"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B903A0A-4F51-401C-AB9B-3E378753DB3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C62F425-C859-400C-9C9C-52537E27F82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F004314-8A34-490A-9B50-B301623DE7A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0E99E90-40D6-494C-AF5D-E3101E794FD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472F166-4E58-49FB-9607-30E9264F1D7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FABC8D2-888C-473C-924F-9E2DB13A6D9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4CE8083-C630-4A49-A834-E483FB1FE72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E2FCAB-00B3-4900-AD77-45B432EB56D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73976E-6906-4F4E-A498-D16521CB12D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F08FDCB-85B8-49E2-9E4F-604505B6733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A6A6C02-EA9E-4642-B112-72E3DBF5DE2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60326FE-5FAF-4431-B69C-EA7972059CE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0C4C5E7-DCF7-4E20-8DD0-45D433FB737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5C32938-A570-466D-8DBB-92BF9C109D4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62A8BEC-A4D6-4F08-91CD-B6DDD8B72E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D7389BE-8C8C-4357-A53D-3531EDD04B1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DC52D75-8AD1-4625-8BA1-2D9064E763E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A83D14F-EFC1-46D6-B1F6-EBB1CD98230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36967D6-CF37-4BAA-9640-38CAA4152AF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F0DE211-CDB8-4185-8ECB-C2CB18BE933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A99F895-9C90-4F04-9ADD-F00030DD8A6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67504ED-026A-4707-B6B9-9337B225F02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C406302-8978-4960-BA36-4677DBABBE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D99F79F-AE10-4A77-88BE-16EBDE3598B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2510D89-2FE7-42F4-802A-563AB8D3488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7F391EC-FB77-473C-A871-3C34D097ACE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43694DE-07A6-4DF2-829E-48E3853DC9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AEA2660-0A9C-4C2A-ACA4-249770012D7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F79EEF4-CECF-4111-BF59-6CC1357F37E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C53A4BA-873B-4AEB-A1F0-A6E41DD4D0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5856B5D-F4E6-4576-9F08-72BDECFB1A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6931FCC-AB1F-407F-8691-96C6FC2DD6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7FA2332-CC87-4178-8C46-9ACBA0D3912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3DB4C43-0934-475E-8CA7-8AAA656069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111607C-A524-4050-9B4D-69A76454EE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161720B-4C2C-4320-8134-5B25E1626E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CC3D3CCD-002D-49BC-A915-B772156EF3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70467C5-6F39-433D-ABE7-D51622023E4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AE11DCB-A936-468C-B807-94FA8D2301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812E66C-735F-4184-8124-3C52873D934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040EBF6-1DD8-4676-9258-23545A537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694A4E-718B-485A-B523-BAA13B7320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2E78BFB-9A92-417F-B132-D111C2C522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592E20E-E5F0-479E-A952-8EB960C92B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52DCB01-F2FF-4AE3-AB1B-09CAB1DF076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5995794-E582-4A5C-AC91-8C5F8A922A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7D96BDE-CE34-4E3C-B0F9-1156B389ECF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EE9F567-C43E-4CC9-A8C5-5AFCFBC85F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8DA63E4-1065-4A75-992D-7CB89271F50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62139F10-7058-42E1-84A1-6ECB28AF6F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7ECA42C-1349-4B4B-9B75-15FA4B5B46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B5BD2F7-CF90-47EA-9D63-90CB7B2EB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B1EE09-A898-4E95-930B-3D5E3746AD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7DBFE8A-F5C3-4555-91D2-9BC979DABF5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F1679ED-C50E-44C2-BE9A-A48DB8BEE2A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940B154-049B-4553-B907-A9A5C2E87F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391B3E1-8B00-4342-B908-BD94210ACC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228B3EE-E74C-475A-9842-BACCE4FA48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ED84EC1-1BF0-431A-A6FF-3BB0ADDCAB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8D65735-D5C4-49E1-A8DD-DE09A69C3DB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BF174F88-D0F0-400F-A58C-79A33359B3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97851318-B34A-4288-8103-D99F77D416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C3520EF0-DD93-4ACB-809E-BDD2083D6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646E98-E681-416E-9EA4-0E2D0512E4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85058EEF-9E9E-4A19-B23E-F750AAFEB55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9E503CA-B7E0-4601-990D-16E577D596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8F62CC5-962E-41E1-B232-5D61F261BE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46446E9-32E8-4E80-AA3C-A0A8260A35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8B105DD-80B2-49F3-9D28-F850F5C2A5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293FCE36-A97C-4A95-9816-9E08D632039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ADA82AFA-C20D-4F6A-A429-43BF9C51D0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7F81756-999E-4098-837A-8446137326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13D6CB7-CA38-48EB-AAF9-5C7BE43FC7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41FCB937-AC7B-4AFE-B3F8-9ADCD2B4A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D2FF721-4DEC-4443-AAE5-7F984D970288}"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18DE462-FCB6-411B-ADF4-A43DA0EDFE7E}"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709E89F-B3F3-4E0F-8312-B6D9D39381F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E4A5C59-244D-43A1-90AD-939F941F3F9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FE6F131-6CF9-4406-9D7D-2BBECDF1E94E}"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5328F8E-A4A7-453C-A35D-E33CDA14AB0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07B8942-FFB6-495E-A6FF-792F8B5B8D1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F04AD15-B275-400B-B9E5-74A83BA1DBA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EF61C54-C4B7-4DFD-8EEF-D380BE31649E}"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89C471F-7EBB-44DD-A121-72FD9BDD539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44000E1-DBC0-4147-B0C3-2F7DB9B9BAA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B450E19-F6BB-4B51-8EA6-DB61C479E797}"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FF59991-FDBB-4D90-A750-55EAC0C7FE0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C9FE867-5382-4E9C-BB2B-CDEBFEEB4E4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E27DEF1-0C43-4F16-9FB3-C5EBBED2F60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1D754B2-5D18-4F5F-859A-1C4909A663F2}"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5C687F7-D357-43C3-A441-10114207DFC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08EE4E6-5132-4E75-A284-DBB5915743E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60D57BD-8399-4077-96B5-98475DBD714D}"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5B8A12A-41BE-48EB-BD47-39408A02899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8F9F682-5F37-4ECB-9B7D-9A1236959BE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E8AE926-73FB-41CE-A75B-5AAD42FED22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C894-5579-4283-9F6C-D77B22AB3C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B39BB3A9-FE31-4042-BE8D-57AC3F8261A5}"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15F093AD-F471-494E-B96A-81EE54E74219}"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6FA3D1B-0A78-48EC-8B79-F71249C8A15E}"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6655BD2-A2E9-4632-9F9D-2B13D02705BF}"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071D8DF8-EF40-4FA0-94D5-2ADDDAF9AE7D}"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796C82C4-9E8C-4D05-B637-E8CFD69D2C02}"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BB1564E-1A53-4490-8691-AAC2C0CBC0D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58" name="Picture 2" descr=""/>
          <p:cNvPicPr/>
          <p:nvPr/>
        </p:nvPicPr>
        <p:blipFill>
          <a:blip r:embed="rId2"/>
          <a:stretch/>
        </p:blipFill>
        <p:spPr>
          <a:xfrm>
            <a:off x="7238880" y="457200"/>
            <a:ext cx="1524240" cy="401760"/>
          </a:xfrm>
          <a:prstGeom prst="rect">
            <a:avLst/>
          </a:prstGeom>
          <a:ln w="0">
            <a:noFill/>
          </a:ln>
        </p:spPr>
      </p:pic>
      <p:sp>
        <p:nvSpPr>
          <p:cNvPr id="15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56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781058F-0542-4901-B2B0-689B316EBB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1" name="Picture 2" descr=""/>
          <p:cNvPicPr/>
          <p:nvPr/>
        </p:nvPicPr>
        <p:blipFill>
          <a:blip r:embed="rId2"/>
          <a:stretch/>
        </p:blipFill>
        <p:spPr>
          <a:xfrm>
            <a:off x="7238880" y="457200"/>
            <a:ext cx="1524240" cy="401760"/>
          </a:xfrm>
          <a:prstGeom prst="rect">
            <a:avLst/>
          </a:prstGeom>
          <a:ln w="0">
            <a:noFill/>
          </a:ln>
        </p:spPr>
      </p:pic>
      <p:sp>
        <p:nvSpPr>
          <p:cNvPr id="16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355BD9-FF71-4C01-AEEC-7C94108DC6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4" name="Picture 2" descr=""/>
          <p:cNvPicPr/>
          <p:nvPr/>
        </p:nvPicPr>
        <p:blipFill>
          <a:blip r:embed="rId2"/>
          <a:stretch/>
        </p:blipFill>
        <p:spPr>
          <a:xfrm>
            <a:off x="7238880" y="457200"/>
            <a:ext cx="1524240" cy="401760"/>
          </a:xfrm>
          <a:prstGeom prst="rect">
            <a:avLst/>
          </a:prstGeom>
          <a:ln w="0">
            <a:noFill/>
          </a:ln>
        </p:spPr>
      </p:pic>
      <p:sp>
        <p:nvSpPr>
          <p:cNvPr id="16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4DE2C9B-C6EF-49BF-98F9-0F44F9796E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35CCAD4-ED46-469E-9933-B06A685A23C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7" name="Picture 2" descr=""/>
          <p:cNvPicPr/>
          <p:nvPr/>
        </p:nvPicPr>
        <p:blipFill>
          <a:blip r:embed="rId2"/>
          <a:stretch/>
        </p:blipFill>
        <p:spPr>
          <a:xfrm>
            <a:off x="7238880" y="457200"/>
            <a:ext cx="1524240" cy="401760"/>
          </a:xfrm>
          <a:prstGeom prst="rect">
            <a:avLst/>
          </a:prstGeom>
          <a:ln w="0">
            <a:noFill/>
          </a:ln>
        </p:spPr>
      </p:pic>
      <p:sp>
        <p:nvSpPr>
          <p:cNvPr id="16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9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5F70E1D-91EA-488D-96DB-FB53CCAEFE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0" name="Picture 2" descr=""/>
          <p:cNvPicPr/>
          <p:nvPr/>
        </p:nvPicPr>
        <p:blipFill>
          <a:blip r:embed="rId2"/>
          <a:stretch/>
        </p:blipFill>
        <p:spPr>
          <a:xfrm>
            <a:off x="7238880" y="457200"/>
            <a:ext cx="1524240" cy="401760"/>
          </a:xfrm>
          <a:prstGeom prst="rect">
            <a:avLst/>
          </a:prstGeom>
          <a:ln w="0">
            <a:noFill/>
          </a:ln>
        </p:spPr>
      </p:pic>
      <p:sp>
        <p:nvSpPr>
          <p:cNvPr id="17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7F00CC-EA15-443B-B122-717A7E573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3" name="Picture 2" descr=""/>
          <p:cNvPicPr/>
          <p:nvPr/>
        </p:nvPicPr>
        <p:blipFill>
          <a:blip r:embed="rId2"/>
          <a:stretch/>
        </p:blipFill>
        <p:spPr>
          <a:xfrm>
            <a:off x="7238880" y="457200"/>
            <a:ext cx="1524240" cy="401760"/>
          </a:xfrm>
          <a:prstGeom prst="rect">
            <a:avLst/>
          </a:prstGeom>
          <a:ln w="0">
            <a:noFill/>
          </a:ln>
        </p:spPr>
      </p:pic>
      <p:sp>
        <p:nvSpPr>
          <p:cNvPr id="17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575E5FD-3E5C-4F20-AEF3-C75D13C27F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6" name="Picture 2" descr=""/>
          <p:cNvPicPr/>
          <p:nvPr/>
        </p:nvPicPr>
        <p:blipFill>
          <a:blip r:embed="rId2"/>
          <a:stretch/>
        </p:blipFill>
        <p:spPr>
          <a:xfrm>
            <a:off x="7238880" y="457200"/>
            <a:ext cx="1524240" cy="401760"/>
          </a:xfrm>
          <a:prstGeom prst="rect">
            <a:avLst/>
          </a:prstGeom>
          <a:ln w="0">
            <a:noFill/>
          </a:ln>
        </p:spPr>
      </p:pic>
      <p:sp>
        <p:nvSpPr>
          <p:cNvPr id="18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9"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0"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21"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E9000B7-7EC4-47BD-B067-7BC34BC63E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9" name="Picture 2" descr=""/>
          <p:cNvPicPr/>
          <p:nvPr/>
        </p:nvPicPr>
        <p:blipFill>
          <a:blip r:embed="rId2"/>
          <a:stretch/>
        </p:blipFill>
        <p:spPr>
          <a:xfrm>
            <a:off x="7238880" y="457200"/>
            <a:ext cx="1524240" cy="401760"/>
          </a:xfrm>
          <a:prstGeom prst="rect">
            <a:avLst/>
          </a:prstGeom>
          <a:ln w="0">
            <a:noFill/>
          </a:ln>
        </p:spPr>
      </p:pic>
      <p:sp>
        <p:nvSpPr>
          <p:cNvPr id="18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98AA3A-CD5C-4D6F-964B-548F6C5667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02" name="Picture 2" descr=""/>
          <p:cNvPicPr/>
          <p:nvPr/>
        </p:nvPicPr>
        <p:blipFill>
          <a:blip r:embed="rId2"/>
          <a:stretch/>
        </p:blipFill>
        <p:spPr>
          <a:xfrm>
            <a:off x="7238880" y="457200"/>
            <a:ext cx="1524240" cy="401760"/>
          </a:xfrm>
          <a:prstGeom prst="rect">
            <a:avLst/>
          </a:prstGeom>
          <a:ln w="0">
            <a:noFill/>
          </a:ln>
        </p:spPr>
      </p:pic>
      <p:sp>
        <p:nvSpPr>
          <p:cNvPr id="19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83FEBD5-DFC4-4A49-8BF6-F632A7366F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5" name="Picture 2" descr=""/>
          <p:cNvPicPr/>
          <p:nvPr/>
        </p:nvPicPr>
        <p:blipFill>
          <a:blip r:embed="rId2"/>
          <a:stretch/>
        </p:blipFill>
        <p:spPr>
          <a:xfrm>
            <a:off x="7238880" y="457200"/>
            <a:ext cx="1524240" cy="401760"/>
          </a:xfrm>
          <a:prstGeom prst="rect">
            <a:avLst/>
          </a:prstGeom>
          <a:ln w="0">
            <a:noFill/>
          </a:ln>
        </p:spPr>
      </p:pic>
      <p:sp>
        <p:nvSpPr>
          <p:cNvPr id="19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5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488F27-79C8-4689-815D-625E560D24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8" name="Picture 2" descr=""/>
          <p:cNvPicPr/>
          <p:nvPr/>
        </p:nvPicPr>
        <p:blipFill>
          <a:blip r:embed="rId2"/>
          <a:stretch/>
        </p:blipFill>
        <p:spPr>
          <a:xfrm>
            <a:off x="7238880" y="457200"/>
            <a:ext cx="1524240" cy="401760"/>
          </a:xfrm>
          <a:prstGeom prst="rect">
            <a:avLst/>
          </a:prstGeom>
          <a:ln w="0">
            <a:noFill/>
          </a:ln>
        </p:spPr>
      </p:pic>
      <p:sp>
        <p:nvSpPr>
          <p:cNvPr id="19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9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525AEA6-290A-46F0-AA1C-C47DAD41EA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D978264-79C6-444C-B134-799744FF3C6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64DA631-0F55-4CC0-8439-3C48CFA09FE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7357BB2-7BBA-47D6-B323-52AE4EE7238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D2D98F7-971F-4731-B48A-2B59168A3C1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72FAE38-8230-4C59-88BB-0203D5881B8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9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9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0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doe.k12.de.us/infosuites/staff/ci/content_areas/science.shtml" TargetMode="External"/><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hyperlink" Target="http://www.nap.edu/catalog.php?record_id=13165" TargetMode="External"/><Relationship Id="rId9" Type="http://schemas.openxmlformats.org/officeDocument/2006/relationships/image" Target="../media/image34.jpeg"/><Relationship Id="rId10" Type="http://schemas.openxmlformats.org/officeDocument/2006/relationships/slideLayout" Target="../slideLayouts/slideLayout505.xml"/><Relationship Id="rId11"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7" name="Picture 2" descr="Untitled-1"/>
          <p:cNvPicPr/>
          <p:nvPr/>
        </p:nvPicPr>
        <p:blipFill>
          <a:blip r:embed="rId1"/>
          <a:stretch/>
        </p:blipFill>
        <p:spPr>
          <a:xfrm>
            <a:off x="380880" y="77760"/>
            <a:ext cx="8458200" cy="2629080"/>
          </a:xfrm>
          <a:prstGeom prst="rect">
            <a:avLst/>
          </a:prstGeom>
          <a:ln w="0">
            <a:noFill/>
          </a:ln>
        </p:spPr>
      </p:pic>
      <p:sp>
        <p:nvSpPr>
          <p:cNvPr id="203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3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1F6DB43-FEBA-42BC-AA87-08A705BB1644}"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4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4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4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65" name="Content Placeholder 3" descr=""/>
          <p:cNvPicPr/>
          <p:nvPr/>
        </p:nvPicPr>
        <p:blipFill>
          <a:blip r:embed="rId1"/>
          <a:stretch/>
        </p:blipFill>
        <p:spPr>
          <a:xfrm>
            <a:off x="457200" y="371520"/>
            <a:ext cx="8229600" cy="57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67"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SS2.D: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What regulates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2</a:t>
            </a:r>
            <a:r>
              <a:rPr b="1" lang="en-US" sz="2200" spc="-1" strike="noStrike" baseline="30000">
                <a:solidFill>
                  <a:srgbClr val="000000"/>
                </a:solidFill>
                <a:latin typeface="Arial"/>
              </a:rPr>
              <a:t>nd</a:t>
            </a:r>
            <a:r>
              <a:rPr b="1" lang="en-US" sz="2200" spc="-1" strike="noStrike">
                <a:solidFill>
                  <a:srgbClr val="000000"/>
                </a:solidFill>
                <a:latin typeface="Arial"/>
              </a:rPr>
              <a:t> grade</a:t>
            </a:r>
            <a:r>
              <a:rPr b="0" lang="en-US" sz="2200" spc="-1" strike="noStrike">
                <a:solidFill>
                  <a:srgbClr val="000000"/>
                </a:solidFill>
                <a:latin typeface="Arial"/>
              </a:rPr>
              <a:t>:  Weather is the combination of sunlight, wind, snow or rain, and temperature in a particular region at a particular time.  People measure these conditions to describe and record the weather and to notice patterns over tim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5</a:t>
            </a:r>
            <a:r>
              <a:rPr b="1" lang="en-US" sz="2200" spc="-1" strike="noStrike" baseline="30000">
                <a:solidFill>
                  <a:srgbClr val="000000"/>
                </a:solidFill>
                <a:latin typeface="Arial"/>
              </a:rPr>
              <a:t>th</a:t>
            </a:r>
            <a:r>
              <a:rPr b="1" lang="en-US" sz="2200" spc="-1" strike="noStrike">
                <a:solidFill>
                  <a:srgbClr val="000000"/>
                </a:solidFill>
                <a:latin typeface="Arial"/>
              </a:rPr>
              <a:t> grade</a:t>
            </a:r>
            <a:r>
              <a:rPr b="0" lang="en-US" sz="2200" spc="-1" strike="noStrike">
                <a:solidFill>
                  <a:srgbClr val="000000"/>
                </a:solidFill>
                <a:latin typeface="Arial"/>
              </a:rPr>
              <a:t>:  Weather is the minute by minute to day by day variation of the atmosphere’s condition on a local scale.  Scientists record the patterns of the weather across different times and areas so that they can make predictions about what kind of weather might happen next.  Climate describes the ranges of an area’s typical weather conditions and the extent to which those conditions vary over years to centuries.</a:t>
            </a:r>
            <a:endParaRPr b="0" lang="en-US" sz="2200" spc="-1" strike="noStrike">
              <a:solidFill>
                <a:srgbClr val="000000"/>
              </a:solidFill>
              <a:latin typeface="Arial"/>
            </a:endParaRPr>
          </a:p>
          <a:p>
            <a:pPr marL="341280" indent="-341280">
              <a:lnSpc>
                <a:spcPct val="80000"/>
              </a:lnSpc>
              <a:spcBef>
                <a:spcPts val="275"/>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100" spc="-1" strike="noStrike">
                <a:solidFill>
                  <a:srgbClr val="ff0000"/>
                </a:solidFill>
                <a:latin typeface="Arial"/>
              </a:rPr>
              <a:t>Frameworks pg. 1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6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SS2.D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8</a:t>
            </a:r>
            <a:r>
              <a:rPr b="1" lang="en-US" sz="2200" spc="-1" strike="noStrike" baseline="30000">
                <a:solidFill>
                  <a:srgbClr val="000000"/>
                </a:solidFill>
                <a:latin typeface="Arial"/>
              </a:rPr>
              <a:t>th</a:t>
            </a:r>
            <a:r>
              <a:rPr b="1" lang="en-US" sz="2200" spc="-1" strike="noStrike">
                <a:solidFill>
                  <a:srgbClr val="000000"/>
                </a:solidFill>
                <a:latin typeface="Arial"/>
              </a:rPr>
              <a:t> grade</a:t>
            </a:r>
            <a:r>
              <a:rPr b="0" lang="en-US" sz="2200" spc="-1" strike="noStrike">
                <a:solidFill>
                  <a:srgbClr val="000000"/>
                </a:solidFill>
                <a:latin typeface="Arial"/>
              </a:rPr>
              <a:t>:  Weather and climate are influenced by interactions involving sunlight, the ocean, the atmosphere, ice, landforms, and living things.  These interactions vary with latitude, and local and regional geography, all of which can affect oceanic and atmospheric flow patterns.  Because these patterns are so complex, weather can be predicted only probabilistically. The ocean exerts a major influence on weather and climate by absorbing energy from the sun, releasing it over time, and globally redistributing it though ocean currents.  Greenhouse gases in the atmosphere absorb and retain the energy radiated from land and ocean surfaces, thereby regulating Earth’s average surface temperature and keeping it habitable.</a:t>
            </a:r>
            <a:endParaRPr b="0" lang="en-US" sz="2200" spc="-1" strike="noStrike">
              <a:solidFill>
                <a:srgbClr val="000000"/>
              </a:solidFill>
              <a:latin typeface="Arial"/>
            </a:endParaRPr>
          </a:p>
          <a:p>
            <a:pPr marL="341280" indent="-341280">
              <a:lnSpc>
                <a:spcPct val="80000"/>
              </a:lnSpc>
              <a:spcBef>
                <a:spcPts val="3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0000"/>
                </a:solidFill>
                <a:latin typeface="Arial"/>
              </a:rPr>
              <a:t>Frameworks pg. 1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71"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End of grade 12</a:t>
            </a:r>
            <a:r>
              <a:rPr b="0" lang="en-US" sz="1900" spc="-1" strike="noStrike">
                <a:solidFill>
                  <a:srgbClr val="000000"/>
                </a:solidFill>
                <a:latin typeface="Arial"/>
              </a:rPr>
              <a:t>:  The foundation for Earth’s global climate system is the electromagnetic radiation from the sun as well as its reflection, absorption, storage, and redistribution among the atmosphere, ocean, and land systems and this energy’s reradiation into space.  Climate change can occur when certain parts of Earths’ systems are altered.  Changes in the atmosphere due to human activity have increased carbon dioxide concentrations and thus affect climate. Global climate models incorporate scientists’ best knowledge of physical and chemical processes and of the interactions of relevant systems.  They are tested by their ability to fit past climate variations.  Current models predict that, although future regional climate changes will be complex and varied, average global temperatures will continue to rise.  The outcomes predicted by global climate models strongly depend on the amounts of human-generated greenhouse gases added to the atmosphere each year and by the ways in which these gases are absorbed by the ocean and the biosphere.  Hence the outcomes depend on human behaviors as well as on natural factors that involve complex feedbacks among Earth’s system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73"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75"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76"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title"/>
          </p:nvPr>
        </p:nvSpPr>
        <p:spPr>
          <a:xfrm>
            <a:off x="76320" y="30456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200" spc="-1" strike="noStrike">
                <a:solidFill>
                  <a:srgbClr val="003399"/>
                </a:solidFill>
                <a:latin typeface="Arial"/>
              </a:rPr>
              <a:t>Scientific and Engineering Practices</a:t>
            </a:r>
            <a:endParaRPr b="0" lang="en-US" sz="3200" spc="-1" strike="noStrike">
              <a:solidFill>
                <a:srgbClr val="000000"/>
              </a:solidFill>
              <a:latin typeface="Arial"/>
            </a:endParaRPr>
          </a:p>
        </p:txBody>
      </p:sp>
      <p:sp>
        <p:nvSpPr>
          <p:cNvPr id="2078" name=""/>
          <p:cNvSpPr txBox="1"/>
          <p:nvPr/>
        </p:nvSpPr>
        <p:spPr>
          <a:xfrm>
            <a:off x="533520" y="1600200"/>
            <a:ext cx="8153280" cy="4525920"/>
          </a:xfrm>
          <a:prstGeom prst="rect">
            <a:avLst/>
          </a:prstGeom>
          <a:noFill/>
          <a:ln w="0">
            <a:noFill/>
          </a:ln>
        </p:spPr>
        <p:txBody>
          <a:bodyPr anchor="t">
            <a:normAutofit fontScale="99000"/>
          </a:bodyPr>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sking questions (for science) and defining problems (for engineer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Developing and using model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Planning and carrying out investigation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nalyzing and interpreting data</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Using mathematics and computational think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Constructing explanations (for science) and designing solutions (for  </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engineering)</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7.  Engaging in argument from evidence</a:t>
            </a:r>
            <a:br>
              <a:rPr sz="1900"/>
            </a:b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8.  Obtaining, evaluating, and communicating information</a:t>
            </a:r>
            <a:endParaRPr b="0" lang="en-US" sz="1800" spc="-1" strike="noStrike">
              <a:solidFill>
                <a:srgbClr val="000000"/>
              </a:solidFill>
              <a:latin typeface="Arial"/>
            </a:endParaRPr>
          </a:p>
          <a:p>
            <a:pPr>
              <a:lnSpc>
                <a:spcPct val="8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hy Science and Engineering Practices?</a:t>
            </a:r>
            <a:endParaRPr b="0" lang="en-US" sz="2400" spc="-1" strike="noStrike">
              <a:solidFill>
                <a:srgbClr val="000000"/>
              </a:solidFill>
              <a:latin typeface="Arial"/>
            </a:endParaRPr>
          </a:p>
        </p:txBody>
      </p:sp>
      <p:sp>
        <p:nvSpPr>
          <p:cNvPr id="2080"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gaging in the practices of science helps students understand how scientific knowledge develop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The actual doing of science or engineering can pique students’ curiosity, capture their interest, and motivate their continued study.</a:t>
            </a:r>
            <a:endParaRPr b="0" lang="en-US" sz="1900" spc="-1" strike="noStrike">
              <a:solidFill>
                <a:srgbClr val="000000"/>
              </a:solidFill>
              <a:latin typeface="Arial"/>
            </a:endParaRPr>
          </a:p>
        </p:txBody>
      </p:sp>
      <p:sp>
        <p:nvSpPr>
          <p:cNvPr id="2081" name=""/>
          <p:cNvSpPr txBox="1"/>
          <p:nvPr/>
        </p:nvSpPr>
        <p:spPr>
          <a:xfrm>
            <a:off x="46260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A focus on practices (in the plural) avoids the mistaken impression that there is one distinctive approach common to all science—a single “scientific method”—or that uncertainty is a universal attribute of science.</a:t>
            </a:r>
            <a:endParaRPr b="0" lang="en-US" sz="1900" spc="-1" strike="noStrike">
              <a:solidFill>
                <a:srgbClr val="000000"/>
              </a:solidFill>
              <a:latin typeface="Arial"/>
            </a:endParaRPr>
          </a:p>
          <a:p>
            <a:pPr marL="341280" indent="-34128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b050"/>
                </a:solidFill>
                <a:latin typeface="Arial"/>
              </a:rPr>
              <a:t>Cross-Cutting Concepts</a:t>
            </a:r>
            <a:endParaRPr b="0" lang="en-US" sz="2400" spc="-1" strike="noStrike">
              <a:solidFill>
                <a:srgbClr val="000000"/>
              </a:solidFill>
              <a:latin typeface="Arial"/>
            </a:endParaRPr>
          </a:p>
        </p:txBody>
      </p:sp>
      <p:sp>
        <p:nvSpPr>
          <p:cNvPr id="2083" name=""/>
          <p:cNvSpPr txBox="1"/>
          <p:nvPr/>
        </p:nvSpPr>
        <p:spPr>
          <a:xfrm>
            <a:off x="457200" y="1828800"/>
            <a:ext cx="7238880" cy="3733920"/>
          </a:xfrm>
          <a:prstGeom prst="rect">
            <a:avLst/>
          </a:prstGeom>
          <a:noFill/>
          <a:ln w="0">
            <a:noFill/>
          </a:ln>
        </p:spPr>
        <p:txBody>
          <a:bodyPr anchor="t">
            <a:normAutofit/>
          </a:bodyPr>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Pattern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Cause and effect: Mechanism and explan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cale, proportion, and quantity</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ystems and system model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ergy and matter: Flows, cycles, and conserv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ructure and func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ability and change</a:t>
            </a:r>
            <a:endParaRPr b="0" lang="en-US" sz="1900" spc="-1" strike="noStrike">
              <a:solidFill>
                <a:srgbClr val="000000"/>
              </a:solidFill>
              <a:latin typeface="Arial"/>
            </a:endParaRPr>
          </a:p>
          <a:p>
            <a:pPr marL="457200" indent="-45720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uiding Principles of the Cross-Cutting Concepts</a:t>
            </a:r>
            <a:endParaRPr b="0" lang="en-US" sz="2400" spc="-1" strike="noStrike">
              <a:solidFill>
                <a:srgbClr val="000000"/>
              </a:solidFill>
              <a:latin typeface="Arial"/>
            </a:endParaRPr>
          </a:p>
        </p:txBody>
      </p:sp>
      <p:sp>
        <p:nvSpPr>
          <p:cNvPr id="2085"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core ideas in science and engineering.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science and engineering practices. </a:t>
            </a:r>
            <a:endParaRPr b="0" lang="en-US" sz="1900" spc="-1" strike="noStrike">
              <a:solidFill>
                <a:srgbClr val="000000"/>
              </a:solidFill>
              <a:latin typeface="Arial"/>
            </a:endParaRPr>
          </a:p>
        </p:txBody>
      </p:sp>
      <p:sp>
        <p:nvSpPr>
          <p:cNvPr id="2086" name=""/>
          <p:cNvSpPr txBox="1"/>
          <p:nvPr/>
        </p:nvSpPr>
        <p:spPr>
          <a:xfrm>
            <a:off x="4626000" y="1600200"/>
            <a:ext cx="4060800" cy="4525920"/>
          </a:xfrm>
          <a:prstGeom prst="rect">
            <a:avLst/>
          </a:prstGeom>
          <a:noFill/>
          <a:ln w="0">
            <a:noFill/>
          </a:ln>
        </p:spPr>
        <p:txBody>
          <a:bodyPr anchor="t">
            <a:normAutofit fontScale="99000"/>
          </a:bodyPr>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should grow in complexity and sophistication across the grade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are for </a:t>
            </a:r>
            <a:r>
              <a:rPr b="1" i="1" lang="en-US" sz="1900" spc="-1" strike="noStrike">
                <a:solidFill>
                  <a:srgbClr val="000000"/>
                </a:solidFill>
                <a:latin typeface="Arial"/>
              </a:rPr>
              <a:t>all </a:t>
            </a:r>
            <a:r>
              <a:rPr b="1" lang="en-US" sz="1900" spc="-1" strike="noStrike">
                <a:solidFill>
                  <a:srgbClr val="000000"/>
                </a:solidFill>
                <a:latin typeface="Arial"/>
              </a:rPr>
              <a:t>student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onclusion:  </a:t>
            </a:r>
            <a:r>
              <a:rPr b="0" lang="en-US" sz="1900" spc="-1" strike="noStrike">
                <a:solidFill>
                  <a:srgbClr val="000000"/>
                </a:solidFill>
                <a:latin typeface="Arial"/>
              </a:rPr>
              <a:t>it is essential that </a:t>
            </a:r>
            <a:r>
              <a:rPr b="0" i="1" lang="en-US" sz="1900" spc="-1" strike="noStrike">
                <a:solidFill>
                  <a:srgbClr val="000000"/>
                </a:solidFill>
                <a:latin typeface="Arial"/>
              </a:rPr>
              <a:t>all students </a:t>
            </a:r>
            <a:r>
              <a:rPr b="0" lang="en-US" sz="1900" spc="-1" strike="noStrike">
                <a:solidFill>
                  <a:srgbClr val="000000"/>
                </a:solidFill>
                <a:latin typeface="Arial"/>
              </a:rPr>
              <a:t>engage in using crosscutting concepts, which could result in leveling the playing field and promoting deeper understanding for all student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day’s goals</a:t>
            </a:r>
            <a:endParaRPr b="0" lang="en-US" sz="4400" spc="-1" strike="noStrike">
              <a:solidFill>
                <a:srgbClr val="000000"/>
              </a:solidFill>
              <a:latin typeface="Arial"/>
            </a:endParaRPr>
          </a:p>
        </p:txBody>
      </p:sp>
      <p:sp>
        <p:nvSpPr>
          <p:cNvPr id="204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and explain the </a:t>
            </a:r>
            <a:r>
              <a:rPr b="0" lang="en-US" sz="2800" spc="-1" strike="noStrike" u="sng">
                <a:solidFill>
                  <a:srgbClr val="000000"/>
                </a:solidFill>
                <a:uFillTx/>
                <a:latin typeface="Arial"/>
              </a:rPr>
              <a:t>conceptual shifts </a:t>
            </a:r>
            <a:r>
              <a:rPr b="0" lang="en-US" sz="2800" spc="-1" strike="noStrike">
                <a:solidFill>
                  <a:srgbClr val="000000"/>
                </a:solidFill>
                <a:latin typeface="Arial"/>
              </a:rPr>
              <a:t>of the NGSS in science instru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ct the </a:t>
            </a:r>
            <a:r>
              <a:rPr b="0" lang="en-US" sz="2800" spc="-1" strike="noStrike" u="sng">
                <a:solidFill>
                  <a:srgbClr val="000000"/>
                </a:solidFill>
                <a:uFillTx/>
                <a:latin typeface="Arial"/>
              </a:rPr>
              <a:t>performance expectations</a:t>
            </a:r>
            <a:r>
              <a:rPr b="0" lang="en-US" sz="2800" spc="-1" strike="noStrike">
                <a:solidFill>
                  <a:srgbClr val="000000"/>
                </a:solidFill>
                <a:latin typeface="Arial"/>
              </a:rPr>
              <a:t> (i.e. standards) of the NGSS in terms of the three </a:t>
            </a:r>
            <a:r>
              <a:rPr b="0" lang="en-US" sz="2800" spc="-1" strike="noStrike" u="sng">
                <a:solidFill>
                  <a:srgbClr val="000000"/>
                </a:solidFill>
                <a:uFillTx/>
                <a:latin typeface="Arial"/>
              </a:rPr>
              <a:t>dimens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an analysis of “look fors” and “ask abouts” in science walkthroughs for classrooms using the </a:t>
            </a:r>
            <a:r>
              <a:rPr b="0" lang="en-US" sz="2800" spc="-1" strike="noStrike" u="sng">
                <a:solidFill>
                  <a:srgbClr val="000000"/>
                </a:solidFill>
                <a:uFillTx/>
                <a:latin typeface="Arial"/>
              </a:rPr>
              <a:t>Science and Engineering Practic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7"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089"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0"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1"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2"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3"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4"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5"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6"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7"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8"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9"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00"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101" name="Picture 46" descr="C:\Users\edward.mcgrath\AppData\Local\Microsoft\Windows\Temporary Internet Files\Content.IE5\P077J5IX\MC900334846[1].wmf"/>
          <p:cNvPicPr/>
          <p:nvPr/>
        </p:nvPicPr>
        <p:blipFill>
          <a:blip r:embed="rId2"/>
          <a:stretch/>
        </p:blipFill>
        <p:spPr>
          <a:xfrm rot="18912000">
            <a:off x="1909440" y="5208120"/>
            <a:ext cx="1436760" cy="2094120"/>
          </a:xfrm>
          <a:prstGeom prst="rect">
            <a:avLst/>
          </a:prstGeom>
          <a:ln w="0">
            <a:noFill/>
          </a:ln>
        </p:spPr>
      </p:pic>
      <p:sp>
        <p:nvSpPr>
          <p:cNvPr id="2102"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03"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104"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05"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106"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sp>
        <p:nvSpPr>
          <p:cNvPr id="2107"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08"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09" name="Rectangle 1"/>
          <p:cNvSpPr/>
          <p:nvPr/>
        </p:nvSpPr>
        <p:spPr>
          <a:xfrm>
            <a:off x="76320" y="6095880"/>
            <a:ext cx="1304640" cy="711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111"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u="sng">
                <a:solidFill>
                  <a:srgbClr val="0000ff"/>
                </a:solidFill>
                <a:uFillTx/>
                <a:latin typeface="Arial"/>
                <a:hlinkClick r:id="rId1"/>
              </a:rPr>
              <a:t>www.nextgenscience.org</a:t>
            </a:r>
            <a:endParaRPr b="0" lang="en-US" sz="2800" spc="-1" strike="noStrike">
              <a:solidFill>
                <a:srgbClr val="000000"/>
              </a:solidFill>
              <a:latin typeface="Arial"/>
            </a:endParaRPr>
          </a:p>
          <a:p>
            <a:pPr marL="341280" indent="-341280">
              <a:spcBef>
                <a:spcPts val="70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113" name="Picture 5" descr=""/>
          <p:cNvPicPr/>
          <p:nvPr/>
        </p:nvPicPr>
        <p:blipFill>
          <a:blip r:embed="rId1"/>
          <a:srcRect l="16047" t="27380" r="0" b="3855"/>
          <a:stretch/>
        </p:blipFill>
        <p:spPr>
          <a:xfrm>
            <a:off x="-152280" y="0"/>
            <a:ext cx="1151568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14" name="Picture 5" descr=""/>
          <p:cNvPicPr/>
          <p:nvPr/>
        </p:nvPicPr>
        <p:blipFill>
          <a:blip r:embed="rId1"/>
          <a:srcRect l="17333" t="15685" r="18745" b="7870"/>
          <a:stretch/>
        </p:blipFill>
        <p:spPr>
          <a:xfrm>
            <a:off x="76320" y="304920"/>
            <a:ext cx="9067680" cy="655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ppendices</a:t>
            </a:r>
            <a:endParaRPr b="0" lang="en-US" sz="3200" spc="-1" strike="noStrike">
              <a:solidFill>
                <a:srgbClr val="000000"/>
              </a:solidFill>
              <a:latin typeface="Arial"/>
            </a:endParaRPr>
          </a:p>
        </p:txBody>
      </p:sp>
      <p:sp>
        <p:nvSpPr>
          <p:cNvPr id="2116"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117"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8"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Will the NGSS Not Do?</a:t>
            </a:r>
            <a:endParaRPr b="0" lang="en-US" sz="4600" spc="-1" strike="noStrike">
              <a:solidFill>
                <a:srgbClr val="000000"/>
              </a:solidFill>
              <a:latin typeface="Calibri"/>
            </a:endParaRPr>
          </a:p>
        </p:txBody>
      </p:sp>
      <p:pic>
        <p:nvPicPr>
          <p:cNvPr id="2119" name="Picture 10" descr=""/>
          <p:cNvPicPr/>
          <p:nvPr/>
        </p:nvPicPr>
        <p:blipFill>
          <a:blip r:embed="rId2"/>
          <a:stretch/>
        </p:blipFill>
        <p:spPr>
          <a:xfrm>
            <a:off x="2730600" y="385920"/>
            <a:ext cx="3365280" cy="1503360"/>
          </a:xfrm>
          <a:prstGeom prst="rect">
            <a:avLst/>
          </a:prstGeom>
          <a:ln w="0">
            <a:noFill/>
          </a:ln>
        </p:spPr>
      </p:pic>
      <p:pic>
        <p:nvPicPr>
          <p:cNvPr id="2120" name="Picture 3" descr=""/>
          <p:cNvPicPr/>
          <p:nvPr/>
        </p:nvPicPr>
        <p:blipFill>
          <a:blip r:embed="rId3"/>
          <a:stretch/>
        </p:blipFill>
        <p:spPr>
          <a:xfrm>
            <a:off x="76320" y="76320"/>
            <a:ext cx="761760" cy="1012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122"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124"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5"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Moving from Standards to Instruction</a:t>
            </a:r>
            <a:endParaRPr b="0" lang="en-US" sz="4600" spc="-1" strike="noStrike">
              <a:solidFill>
                <a:srgbClr val="000000"/>
              </a:solidFill>
              <a:latin typeface="Calibri"/>
            </a:endParaRPr>
          </a:p>
        </p:txBody>
      </p:sp>
      <p:pic>
        <p:nvPicPr>
          <p:cNvPr id="2126" name="Picture 10" descr=""/>
          <p:cNvPicPr/>
          <p:nvPr/>
        </p:nvPicPr>
        <p:blipFill>
          <a:blip r:embed="rId2"/>
          <a:stretch/>
        </p:blipFill>
        <p:spPr>
          <a:xfrm>
            <a:off x="2730600" y="385920"/>
            <a:ext cx="3365280" cy="1503360"/>
          </a:xfrm>
          <a:prstGeom prst="rect">
            <a:avLst/>
          </a:prstGeom>
          <a:ln w="0">
            <a:noFill/>
          </a:ln>
        </p:spPr>
      </p:pic>
      <p:pic>
        <p:nvPicPr>
          <p:cNvPr id="2127" name="Picture 3" descr=""/>
          <p:cNvPicPr/>
          <p:nvPr/>
        </p:nvPicPr>
        <p:blipFill>
          <a:blip r:embed="rId3"/>
          <a:stretch/>
        </p:blipFill>
        <p:spPr>
          <a:xfrm>
            <a:off x="76320" y="76320"/>
            <a:ext cx="761760" cy="101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129"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TextBox 1"/>
          <p:cNvSpPr/>
          <p:nvPr/>
        </p:nvSpPr>
        <p:spPr>
          <a:xfrm>
            <a:off x="457200" y="838080"/>
            <a:ext cx="8458200" cy="19220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Links to the Next Generation Science Standards (NGSS):</a:t>
            </a: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u="sng">
                <a:solidFill>
                  <a:srgbClr val="0000ff"/>
                </a:solidFill>
                <a:uFillTx/>
                <a:latin typeface="Arial"/>
                <a:hlinkClick r:id="rId1"/>
              </a:rPr>
              <a:t>www.nextgenscience.org</a:t>
            </a:r>
            <a:endParaRPr b="0" lang="en-US" sz="2400" spc="-1" strike="noStrike">
              <a:solidFill>
                <a:srgbClr val="000000"/>
              </a:solidFill>
              <a:latin typeface="Calibri"/>
            </a:endParaRPr>
          </a:p>
        </p:txBody>
      </p:sp>
      <p:sp>
        <p:nvSpPr>
          <p:cNvPr id="2048" name="TextBox 2"/>
          <p:cNvSpPr/>
          <p:nvPr/>
        </p:nvSpPr>
        <p:spPr>
          <a:xfrm>
            <a:off x="533520" y="3200400"/>
            <a:ext cx="8458200" cy="18003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Delaware NGSS resources</a:t>
            </a:r>
            <a:endParaRPr b="0" lang="en-US" sz="3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 </a:t>
            </a:r>
            <a:r>
              <a:rPr b="0" lang="en-US" sz="2400" spc="-1" strike="noStrike" u="sng">
                <a:solidFill>
                  <a:srgbClr val="0000ff"/>
                </a:solidFill>
                <a:uFillTx/>
                <a:latin typeface="Arial"/>
                <a:hlinkClick r:id="rId2"/>
              </a:rPr>
              <a:t>http://www.doe.k12.de.us/infosuites/staff/ci/content_areas/science.shtml</a:t>
            </a:r>
            <a:r>
              <a:rPr b="1" lang="en-US" sz="2400" spc="-1" strike="noStrike">
                <a:solidFill>
                  <a:srgbClr val="000000"/>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32"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33"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1:  Matter</a:t>
            </a:r>
            <a:endParaRPr b="0" lang="en-US" sz="1400" spc="-1" strike="noStrike">
              <a:solidFill>
                <a:srgbClr val="000000"/>
              </a:solidFill>
              <a:latin typeface="Calibri"/>
            </a:endParaRPr>
          </a:p>
        </p:txBody>
      </p:sp>
      <p:sp>
        <p:nvSpPr>
          <p:cNvPr id="2134"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35"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3:  Energy</a:t>
            </a:r>
            <a:endParaRPr b="0" lang="en-US" sz="1400" spc="-1" strike="noStrike">
              <a:solidFill>
                <a:srgbClr val="000000"/>
              </a:solidFill>
              <a:latin typeface="Calibri"/>
            </a:endParaRPr>
          </a:p>
        </p:txBody>
      </p:sp>
      <p:sp>
        <p:nvSpPr>
          <p:cNvPr id="2136"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37"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2:  Forces</a:t>
            </a:r>
            <a:endParaRPr b="0" lang="en-US" sz="1400" spc="-1" strike="noStrike">
              <a:solidFill>
                <a:srgbClr val="000000"/>
              </a:solidFill>
              <a:latin typeface="Calibri"/>
            </a:endParaRPr>
          </a:p>
        </p:txBody>
      </p:sp>
      <p:sp>
        <p:nvSpPr>
          <p:cNvPr id="2138"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39"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41"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42" name="Picture 6" descr=""/>
          <p:cNvPicPr/>
          <p:nvPr/>
        </p:nvPicPr>
        <p:blipFill>
          <a:blip r:embed="rId3"/>
          <a:stretch/>
        </p:blipFill>
        <p:spPr>
          <a:xfrm>
            <a:off x="228600" y="2438280"/>
            <a:ext cx="1673280" cy="2225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44"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45"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46"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47" name="Picture 5" descr=""/>
          <p:cNvPicPr/>
          <p:nvPr/>
        </p:nvPicPr>
        <p:blipFill>
          <a:blip r:embed="rId5"/>
          <a:srcRect l="0" t="0" r="0" b="33226"/>
          <a:stretch/>
        </p:blipFill>
        <p:spPr>
          <a:xfrm>
            <a:off x="685800" y="1506600"/>
            <a:ext cx="2133720" cy="1338120"/>
          </a:xfrm>
          <a:prstGeom prst="rect">
            <a:avLst/>
          </a:prstGeom>
          <a:ln w="0">
            <a:noFill/>
          </a:ln>
        </p:spPr>
      </p:pic>
      <p:pic>
        <p:nvPicPr>
          <p:cNvPr id="2148" name="Picture 6" descr=""/>
          <p:cNvPicPr/>
          <p:nvPr/>
        </p:nvPicPr>
        <p:blipFill>
          <a:blip r:embed="rId6"/>
          <a:srcRect l="0" t="0" r="0" b="19395"/>
          <a:stretch/>
        </p:blipFill>
        <p:spPr>
          <a:xfrm>
            <a:off x="5064120" y="1270080"/>
            <a:ext cx="2479680" cy="1555560"/>
          </a:xfrm>
          <a:prstGeom prst="rect">
            <a:avLst/>
          </a:prstGeom>
          <a:ln w="0">
            <a:noFill/>
          </a:ln>
        </p:spPr>
      </p:pic>
      <p:pic>
        <p:nvPicPr>
          <p:cNvPr id="2149" name="Picture 1" descr=""/>
          <p:cNvPicPr/>
          <p:nvPr/>
        </p:nvPicPr>
        <p:blipFill>
          <a:blip r:embed="rId7"/>
          <a:srcRect l="37903" t="0" r="0" b="0"/>
          <a:stretch/>
        </p:blipFill>
        <p:spPr>
          <a:xfrm>
            <a:off x="3568680" y="4344840"/>
            <a:ext cx="1970280" cy="2378160"/>
          </a:xfrm>
          <a:prstGeom prst="rect">
            <a:avLst/>
          </a:prstGeom>
          <a:ln w="0">
            <a:noFill/>
          </a:ln>
        </p:spPr>
      </p:pic>
      <p:sp>
        <p:nvSpPr>
          <p:cNvPr id="2150"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ea typeface="Arial"/>
                <a:hlinkClick r:id="rId8"/>
              </a:rPr>
              <a:t>A Framework for K-12 Science Education</a:t>
            </a:r>
            <a:br>
              <a:rPr sz="1800"/>
            </a:br>
            <a:br>
              <a:rPr sz="1800"/>
            </a:br>
            <a:endParaRPr b="0" lang="en-US" sz="1800" spc="-1" strike="noStrike">
              <a:solidFill>
                <a:srgbClr val="000000"/>
              </a:solidFill>
              <a:latin typeface="Calibri"/>
            </a:endParaRPr>
          </a:p>
        </p:txBody>
      </p:sp>
      <p:pic>
        <p:nvPicPr>
          <p:cNvPr id="2151"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9"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s Different about the Next Generation Science Standards?</a:t>
            </a:r>
            <a:endParaRPr b="0" lang="en-US" sz="4600" spc="-1" strike="noStrike">
              <a:solidFill>
                <a:srgbClr val="000000"/>
              </a:solidFill>
              <a:latin typeface="Calibri"/>
            </a:endParaRPr>
          </a:p>
        </p:txBody>
      </p:sp>
      <p:pic>
        <p:nvPicPr>
          <p:cNvPr id="2050" name="Picture 10" descr=""/>
          <p:cNvPicPr/>
          <p:nvPr/>
        </p:nvPicPr>
        <p:blipFill>
          <a:blip r:embed="rId2"/>
          <a:stretch/>
        </p:blipFill>
        <p:spPr>
          <a:xfrm>
            <a:off x="2730600" y="385920"/>
            <a:ext cx="3365280" cy="1503360"/>
          </a:xfrm>
          <a:prstGeom prst="rect">
            <a:avLst/>
          </a:prstGeom>
          <a:ln w="0">
            <a:noFill/>
          </a:ln>
        </p:spPr>
      </p:pic>
      <p:pic>
        <p:nvPicPr>
          <p:cNvPr id="2051" name="Picture 3" descr=""/>
          <p:cNvPicPr/>
          <p:nvPr/>
        </p:nvPicPr>
        <p:blipFill>
          <a:blip r:embed="rId3"/>
          <a:stretch/>
        </p:blipFill>
        <p:spPr>
          <a:xfrm>
            <a:off x="76320" y="76320"/>
            <a:ext cx="761760" cy="1012680"/>
          </a:xfrm>
          <a:prstGeom prst="rect">
            <a:avLst/>
          </a:prstGeom>
          <a:ln w="0">
            <a:noFill/>
          </a:ln>
        </p:spPr>
      </p:pic>
      <p:sp>
        <p:nvSpPr>
          <p:cNvPr id="2052" name="TextBox 1"/>
          <p:cNvSpPr/>
          <p:nvPr/>
        </p:nvSpPr>
        <p:spPr>
          <a:xfrm>
            <a:off x="6553080" y="762120"/>
            <a:ext cx="243864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c00000"/>
                </a:solidFill>
                <a:latin typeface="Calibri"/>
              </a:rPr>
              <a:t>This logo is a registered trademark of Achieve. Neither Achieve nor the lead states and partners that developed the Next Generation Science Standards was involved in the production of, and does not endorse, this slideshow or any part of it.</a:t>
            </a:r>
            <a:endParaRPr b="0" lang="en-US" sz="11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 the New NRC Framework for </a:t>
            </a:r>
            <a:br>
              <a:rPr sz="3200"/>
            </a:br>
            <a:r>
              <a:rPr b="0" lang="en-US" sz="3200" spc="-1" strike="noStrike">
                <a:solidFill>
                  <a:srgbClr val="000000"/>
                </a:solidFill>
                <a:latin typeface="Arial"/>
              </a:rPr>
              <a:t>K-12 Science Education</a:t>
            </a:r>
            <a:endParaRPr b="0" lang="en-US" sz="3200" spc="-1" strike="noStrike">
              <a:solidFill>
                <a:srgbClr val="000000"/>
              </a:solidFill>
              <a:latin typeface="Arial"/>
            </a:endParaRPr>
          </a:p>
        </p:txBody>
      </p:sp>
      <p:sp>
        <p:nvSpPr>
          <p:cNvPr id="2054" name="PlaceHolder 2"/>
          <p:cNvSpPr>
            <a:spLocks noGrp="1"/>
          </p:cNvSpPr>
          <p:nvPr>
            <p:ph type="subTitle"/>
          </p:nvPr>
        </p:nvSpPr>
        <p:spPr>
          <a:xfrm>
            <a:off x="3809520" y="3886200"/>
            <a:ext cx="396252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leased by the National Research Council of the National Academies of Science July 19, 2011</a:t>
            </a:r>
            <a:endParaRPr b="0" lang="en-US" sz="27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55" name="Picture 3" descr=""/>
          <p:cNvPicPr/>
          <p:nvPr/>
        </p:nvPicPr>
        <p:blipFill>
          <a:blip r:embed="rId1"/>
          <a:stretch/>
        </p:blipFill>
        <p:spPr>
          <a:xfrm>
            <a:off x="76320" y="1676520"/>
            <a:ext cx="348912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 Framework for K-12 Science Education</a:t>
            </a:r>
            <a:r>
              <a:rPr b="1" lang="en-US" sz="3600" spc="-1" strike="noStrike">
                <a:solidFill>
                  <a:srgbClr val="000000"/>
                </a:solidFill>
                <a:latin typeface="Arial"/>
              </a:rPr>
              <a:t>: </a:t>
            </a:r>
            <a:br>
              <a:rPr sz="5400"/>
            </a:br>
            <a:r>
              <a:rPr b="1" lang="en-US" sz="3100" spc="-1" strike="noStrike">
                <a:solidFill>
                  <a:srgbClr val="000000"/>
                </a:solidFill>
                <a:latin typeface="Arial"/>
              </a:rPr>
              <a:t>Practices, Crosscutting Concepts, and Core Ideas</a:t>
            </a:r>
            <a:endParaRPr b="0" lang="en-US" sz="3100" spc="-1" strike="noStrike">
              <a:solidFill>
                <a:srgbClr val="000000"/>
              </a:solidFill>
              <a:latin typeface="Arial"/>
            </a:endParaRPr>
          </a:p>
        </p:txBody>
      </p:sp>
      <p:sp>
        <p:nvSpPr>
          <p:cNvPr id="2057" name=""/>
          <p:cNvSpPr txBox="1"/>
          <p:nvPr/>
        </p:nvSpPr>
        <p:spPr>
          <a:xfrm>
            <a:off x="457200" y="2742840"/>
            <a:ext cx="8229600" cy="33829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o, what’s with the name?</a:t>
            </a:r>
            <a:endParaRPr b="0" lang="en-US" sz="2200" spc="-1" strike="noStrike">
              <a:solidFill>
                <a:srgbClr val="000000"/>
              </a:solidFill>
              <a:latin typeface="Arial"/>
            </a:endParaRPr>
          </a:p>
          <a:p>
            <a:pPr marL="514440" indent="-514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1800" spc="-1" strike="noStrike">
                <a:solidFill>
                  <a:srgbClr val="000000"/>
                </a:solidFill>
                <a:latin typeface="Times New Roman"/>
                <a:ea typeface="Times New Roman"/>
              </a:rPr>
              <a:t>The importance of the dimensions</a:t>
            </a:r>
            <a:endParaRPr b="0" lang="en-US" sz="1800" spc="-1" strike="noStrike">
              <a:solidFill>
                <a:srgbClr val="000000"/>
              </a:solidFill>
              <a:latin typeface="Arial"/>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is the purpose of the Framework?</a:t>
            </a:r>
            <a:endParaRPr b="0" lang="en-US" sz="2200" spc="-1" strike="noStrike">
              <a:solidFill>
                <a:srgbClr val="000000"/>
              </a:solidFill>
              <a:latin typeface="Arial"/>
            </a:endParaRPr>
          </a:p>
          <a:p>
            <a:pPr lvl="1" marL="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The document  represents the first step in a process for creating a new vision for science education  and new standards in K-12 science education.  This project capitalizes on a unique opportunity that exists at this moment—a large number of states are adopting common standards in mathematics and English/Language Arts and appear to be poised to consider adoption of common standards in K-12 science education. </a:t>
            </a:r>
            <a:endParaRPr b="0" lang="en-US" sz="1900" spc="-1" strike="noStrike">
              <a:solidFill>
                <a:srgbClr val="000000"/>
              </a:solidFill>
              <a:latin typeface="Arial"/>
            </a:endParaRPr>
          </a:p>
          <a:p>
            <a:pPr marL="514440" indent="-5144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14440" indent="-514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0000"/>
                </a:solidFill>
                <a:latin typeface="Arial"/>
              </a:rPr>
              <a:t>Framework – Forward viii</a:t>
            </a:r>
            <a:endParaRPr b="0" lang="en-US" sz="1700" spc="-1" strike="noStrike">
              <a:solidFill>
                <a:srgbClr val="000000"/>
              </a:solidFill>
              <a:latin typeface="Arial"/>
            </a:endParaRPr>
          </a:p>
          <a:p>
            <a:pPr marL="514440" indent="-514440">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Goals </a:t>
            </a:r>
            <a:endParaRPr b="0" lang="en-US" sz="4400" spc="-1" strike="noStrike">
              <a:solidFill>
                <a:srgbClr val="000000"/>
              </a:solidFill>
              <a:latin typeface="Arial"/>
            </a:endParaRPr>
          </a:p>
        </p:txBody>
      </p:sp>
      <p:sp>
        <p:nvSpPr>
          <p:cNvPr id="2059" name=""/>
          <p:cNvSpPr txBox="1"/>
          <p:nvPr/>
        </p:nvSpPr>
        <p:spPr>
          <a:xfrm>
            <a:off x="457200" y="1294920"/>
            <a:ext cx="8229600" cy="53341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amework is motivated in part by a growing national consensus around the need for greater coherence—that is, a sense of unity—in K-12 science education.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 students’ understanding of the practices of science and engineering, which is as important to understanding science as is knowledge of its conten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amework endeavors to move science education toward a more coherent vision in three ways:</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rst – </a:t>
            </a:r>
            <a:r>
              <a:rPr b="0" lang="en-US" sz="1900" spc="-1" strike="noStrike">
                <a:solidFill>
                  <a:srgbClr val="000000"/>
                </a:solidFill>
                <a:latin typeface="Arial"/>
              </a:rPr>
              <a:t>It is built on the notion of learning as a developmental progression. </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cond – </a:t>
            </a:r>
            <a:r>
              <a:rPr b="0" lang="en-US" sz="1900" spc="-1" strike="noStrike">
                <a:solidFill>
                  <a:srgbClr val="000000"/>
                </a:solidFill>
                <a:latin typeface="Arial"/>
              </a:rPr>
              <a:t>The expectation is that students engage in scientific investigations and argumentation to achieve deeper understanding of core science ideas.</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ird – </a:t>
            </a:r>
            <a:r>
              <a:rPr b="0" lang="en-US" sz="1900" spc="-1" strike="noStrike">
                <a:solidFill>
                  <a:srgbClr val="000000"/>
                </a:solidFill>
                <a:latin typeface="Arial"/>
              </a:rPr>
              <a:t>The Framework emphasizes that learning science and engineering involves integration of the knowledge of scientific explanations (i.e., content knowledge) and the practices needed to engage in scientific inquiry and engineering design. Thus, the Framework seeks to illustrate how knowledge and practice must be intertwined in designing learning experiences in K-12 science education.</a:t>
            </a:r>
            <a:endParaRPr b="0" lang="en-US" sz="1900" spc="-1" strike="noStrike">
              <a:solidFill>
                <a:srgbClr val="000000"/>
              </a:solidFill>
              <a:latin typeface="Arial"/>
            </a:endParaRPr>
          </a:p>
          <a:p>
            <a:pPr lvl="1" marL="463680" indent="-6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0000"/>
                </a:solidFill>
                <a:latin typeface="Arial"/>
              </a:rPr>
              <a:t>Framework 1-3</a:t>
            </a:r>
            <a:endParaRPr b="0" lang="en-US" sz="1700" spc="-1" strike="noStrike">
              <a:solidFill>
                <a:srgbClr val="000000"/>
              </a:solidFill>
              <a:latin typeface="Arial"/>
            </a:endParaRPr>
          </a:p>
          <a:p>
            <a:pPr marL="343080" indent="-343080">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 for Science Education</a:t>
            </a:r>
            <a:endParaRPr b="0" lang="en-US" sz="4400" spc="-1" strike="noStrike">
              <a:solidFill>
                <a:srgbClr val="000000"/>
              </a:solidFill>
              <a:latin typeface="Arial"/>
            </a:endParaRPr>
          </a:p>
        </p:txBody>
      </p:sp>
      <p:sp>
        <p:nvSpPr>
          <p:cNvPr id="2061"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s vision takes into account two major goals for K-12 science education: </a:t>
            </a:r>
            <a:endParaRPr b="0" lang="en-US" sz="24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ng all students in science and engineering. </a:t>
            </a:r>
            <a:endParaRPr b="0" lang="en-US" sz="24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the foundational knowledge for those who will become the scientists, engineers, technologists, and technicians of the future. </a:t>
            </a:r>
            <a:endParaRPr b="0" lang="en-US" sz="2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principally concerns itself with the first task—what all students should know in preparation for their individual lives and for their roles as citizens in this technology-rich and scientifically complex world. </a:t>
            </a:r>
            <a:endParaRPr b="0" lang="en-US" sz="24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Framework 1-2</a:t>
            </a:r>
            <a:endParaRPr b="0" lang="en-US" sz="1800" spc="-1" strike="noStrike">
              <a:solidFill>
                <a:srgbClr val="000000"/>
              </a:solidFill>
              <a:latin typeface="Arial"/>
            </a:endParaRPr>
          </a:p>
          <a:p>
            <a:pPr>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Features: Content</a:t>
            </a:r>
            <a:endParaRPr b="0" lang="en-US" sz="4400" spc="-1" strike="noStrike">
              <a:solidFill>
                <a:srgbClr val="000000"/>
              </a:solidFill>
              <a:latin typeface="Arial"/>
            </a:endParaRPr>
          </a:p>
        </p:txBody>
      </p:sp>
      <p:sp>
        <p:nvSpPr>
          <p:cNvPr id="20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es the Mile Wide/Inch Deep Problem</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er Big Ideas arranged as progressions of learning</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 Technology and Applications of Science is Elevated</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limate and Earth Systems Science are I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3-08-15T15:17:00Z</cp:lastPrinted>
  <dcterms:modified xsi:type="dcterms:W3CDTF">2014-06-26T13:14:05Z</dcterms:modified>
  <cp:revision>499</cp:revision>
  <dc:subject/>
  <dc:title>Slide 1</dc:title>
</cp:coreProperties>
</file>